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625-0D02-4401-BDDA-BE89299A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4F9-FAD5-43BD-BF37-59BD8EE1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CE3-348C-41F2-B729-B623BE9C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492-D62A-490F-BCF4-F8A2E7F3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763-CDDA-4E11-815D-1F4E1EF1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3F0-DE89-4F76-A8E8-D1F33EF4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712-A08E-41BE-B9B4-E2F318B1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493-5E63-49B5-943F-1688BE0C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C48-8336-4840-B577-29C0536B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D98-E0BC-43AE-9070-EC92E5B3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EAE-736B-4BB8-90E2-7BA1B000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18B-DCE6-4937-9CC5-907787B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7845-0252-4372-856E-AEF4786BB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90512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819520"/>
            <a:ext cx="2743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2819520"/>
            <a:ext cx="274320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7448400" y="3429000"/>
            <a:ext cx="1800" cy="623880"/>
          </a:xfrm>
          <a:custGeom>
            <a:avLst/>
            <a:gdLst/>
            <a:ahLst/>
            <a:rect l="l" t="t" r="r" b="b"/>
            <a:pathLst>
              <a:path w="1" h="393">
                <a:moveTo>
                  <a:pt x="0" y="0"/>
                </a:moveTo>
                <a:lnTo>
                  <a:pt x="0" y="39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000" y="158580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8400" y="158580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080" y="190512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91760" y="190512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8440" y="47386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767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9051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7960" y="36576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86080" y="510552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e ig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3429000"/>
            <a:ext cx="342900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8:53Z</dcterms:created>
  <dc:creator>Julio San Miguel</dc:creator>
  <dc:description/>
  <dc:language>en-US</dc:language>
  <cp:lastModifiedBy>Julio San Miguel</cp:lastModifiedBy>
  <dcterms:modified xsi:type="dcterms:W3CDTF">2005-04-24T18:09:29Z</dcterms:modified>
  <cp:revision>1</cp:revision>
  <dc:subject/>
  <dc:title>Sin título de diapositiva</dc:title>
</cp:coreProperties>
</file>