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D82-B8A0-4BB6-9B50-5CE688DC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89C-826F-4A99-9510-BB412C7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F21-0F87-4040-9002-B33DB6BB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68A-1BAA-45E2-B15C-63AFAB02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768-264A-419A-8541-D5165917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C3F-F8E2-4F30-9F7D-00EE085E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D5E-B927-4FAB-854C-29C674C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8F2-F139-4857-8408-59BB6F52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8E4-3EB4-400E-8C32-81E1A40D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C39-6F49-4367-8F7F-B6FAFC8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BC3-B32B-49AB-BA6C-387018B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7DF-4D2B-46E2-A070-20CC8E8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7E51-4F9E-49BB-A539-3B46BC4E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34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78" y="4509"/>
                </a:moveTo>
                <a:arcTo wR="10800" hR="10800" stAng="-2137677" swAng="4331740"/>
                <a:lnTo>
                  <a:pt x="10800" y="10800"/>
                </a:lnTo>
                <a:close/>
              </a:path>
              <a:path fill="none" w="21600" h="21600">
                <a:moveTo>
                  <a:pt x="19578" y="4509"/>
                </a:moveTo>
                <a:arcTo wR="10800" hR="10800" stAng="-2137677" swAng="4331740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629400" y="3048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3048120"/>
            <a:ext cx="7621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800240" y="3048120"/>
            <a:ext cx="2590920" cy="693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2647800"/>
            <a:ext cx="1263600" cy="781200"/>
          </a:xfrm>
          <a:custGeom>
            <a:avLst/>
            <a:gdLst/>
            <a:ahLst/>
            <a:rect l="l" t="t" r="r" b="b"/>
            <a:pathLst>
              <a:path w="796" h="492">
                <a:moveTo>
                  <a:pt x="0" y="492"/>
                </a:moveTo>
                <a:lnTo>
                  <a:pt x="796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2440" y="2666880"/>
            <a:ext cx="2521080" cy="1800"/>
          </a:xfrm>
          <a:custGeom>
            <a:avLst/>
            <a:gdLst/>
            <a:ahLst/>
            <a:rect l="l" t="t" r="r" b="b"/>
            <a:pathLst>
              <a:path w="1588" h="1">
                <a:moveTo>
                  <a:pt x="1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26668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000" y="14335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44200" y="143352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17524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5280" y="175248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840" y="21477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2320" y="214776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7200" y="4114800"/>
            <a:ext cx="66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as prolongaciones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1800" y="480060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será virtual, derech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911320"/>
            <a:ext cx="2774880" cy="516240"/>
          </a:xfrm>
          <a:custGeom>
            <a:avLst/>
            <a:gdLst/>
            <a:ahLst/>
            <a:rect l="l" t="t" r="r" b="b"/>
            <a:pathLst>
              <a:path w="1748" h="325">
                <a:moveTo>
                  <a:pt x="0" y="325"/>
                </a:moveTo>
                <a:lnTo>
                  <a:pt x="174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391520" y="2662200"/>
            <a:ext cx="1371600" cy="3682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40760" y="2590920"/>
            <a:ext cx="1726920" cy="323640"/>
          </a:xfrm>
          <a:custGeom>
            <a:avLst/>
            <a:gdLst/>
            <a:ahLst/>
            <a:rect l="l" t="t" r="r" b="b"/>
            <a:pathLst>
              <a:path w="1088" h="204">
                <a:moveTo>
                  <a:pt x="0" y="204"/>
                </a:moveTo>
                <a:lnTo>
                  <a:pt x="1088" y="0"/>
                </a:lnTo>
              </a:path>
            </a:pathLst>
          </a:custGeom>
          <a:noFill/>
          <a:ln w="93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15200" y="2590200"/>
            <a:ext cx="1600200" cy="75960"/>
          </a:xfrm>
          <a:custGeom>
            <a:avLst/>
            <a:gdLst/>
            <a:ahLst/>
            <a:rect l="l" t="t" r="r" b="b"/>
            <a:pathLst>
              <a:path w="2812" h="1">
                <a:moveTo>
                  <a:pt x="281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913120"/>
            <a:ext cx="2774880" cy="515880"/>
          </a:xfrm>
          <a:custGeom>
            <a:avLst/>
            <a:gdLst/>
            <a:ahLst/>
            <a:rect l="l" t="t" r="r" b="b"/>
            <a:pathLst>
              <a:path w="1748" h="325">
                <a:moveTo>
                  <a:pt x="0" y="325"/>
                </a:moveTo>
                <a:lnTo>
                  <a:pt x="174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2:46Z</dcterms:created>
  <dc:creator>Julio San Miguel</dc:creator>
  <dc:description/>
  <dc:language>en-US</dc:language>
  <cp:lastModifiedBy>Julio San Miguel</cp:lastModifiedBy>
  <dcterms:modified xsi:type="dcterms:W3CDTF">2005-04-24T18:03:41Z</dcterms:modified>
  <cp:revision>1</cp:revision>
  <dc:subject/>
  <dc:title>Sin título de diapositiva</dc:title>
</cp:coreProperties>
</file>