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BCFA-D7A0-4B46-A579-A92BE459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80DE-382F-4019-A1B7-43387A7E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B5A-485F-497D-8DCC-7A0D56D2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8136-34DD-4150-BC51-70581852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379-6424-44F5-8C7D-F9268801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4BCC-9A91-4EBB-8541-55B6BEBE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A5A8-224D-41E0-96B4-28FB344C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7E2E-ED4E-48F9-9981-324565EC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7F7C-A932-436C-B9B2-CCE860C1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B2C2-C8CB-4440-AA7A-7ECE8162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4F35-51FE-4C47-90E3-67BB3DAE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9B0-F77A-4493-8FA7-50134687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FDCE-38E7-4EB8-B1D1-7FEAFAA59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42900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8580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819520"/>
            <a:ext cx="39625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2819520"/>
            <a:ext cx="4343400" cy="1915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819520"/>
            <a:ext cx="396252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6781680" y="3429000"/>
            <a:ext cx="77760" cy="338040"/>
          </a:xfrm>
          <a:custGeom>
            <a:avLst/>
            <a:gdLst/>
            <a:ahLst/>
            <a:rect l="l" t="t" r="r" b="b"/>
            <a:pathLst>
              <a:path w="1" h="645">
                <a:moveTo>
                  <a:pt x="0" y="0"/>
                </a:moveTo>
                <a:lnTo>
                  <a:pt x="0" y="64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9320" y="150984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58040" y="1447920"/>
            <a:ext cx="34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se refracta pasando por el foco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70400" y="182880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de la l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91760" y="176688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 no se des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73480" y="4648320"/>
            <a:ext cx="48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3600" y="3581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327636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82200" y="311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6765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7960" y="36576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3429000"/>
            <a:ext cx="396216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29200" y="5014800"/>
            <a:ext cx="315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magen es real, invertida y 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342900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819520"/>
            <a:ext cx="27432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2819520"/>
            <a:ext cx="4343400" cy="1915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2819520"/>
            <a:ext cx="274320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7448400" y="3429000"/>
            <a:ext cx="1800" cy="623880"/>
          </a:xfrm>
          <a:custGeom>
            <a:avLst/>
            <a:gdLst/>
            <a:ahLst/>
            <a:rect l="l" t="t" r="r" b="b"/>
            <a:pathLst>
              <a:path w="1" h="393">
                <a:moveTo>
                  <a:pt x="0" y="0"/>
                </a:moveTo>
                <a:lnTo>
                  <a:pt x="0" y="39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3000" y="158580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58400" y="1585800"/>
            <a:ext cx="35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 se refracta pasando por el foco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4080" y="190512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de la l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91760" y="190512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 no se des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8440" y="4738680"/>
            <a:ext cx="48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3600" y="3581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2767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82200" y="311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9051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7960" y="36576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86080" y="5105520"/>
            <a:ext cx="30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magen es real, invertida e ig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3429000"/>
            <a:ext cx="3429000" cy="762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28800" y="34290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43828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2819520"/>
            <a:ext cx="221004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2819520"/>
            <a:ext cx="4343400" cy="1915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2819520"/>
            <a:ext cx="221004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endshow"/>
          </p:cNvPr>
          <p:cNvSpPr/>
          <p:nvPr/>
        </p:nvSpPr>
        <p:spPr>
          <a:xfrm>
            <a:off x="8381880" y="3429000"/>
            <a:ext cx="1800" cy="1023840"/>
          </a:xfrm>
          <a:custGeom>
            <a:avLst/>
            <a:gdLst/>
            <a:ahLst/>
            <a:rect l="l" t="t" r="r" b="b"/>
            <a:pathLst>
              <a:path w="1" h="645">
                <a:moveTo>
                  <a:pt x="0" y="0"/>
                </a:moveTo>
                <a:lnTo>
                  <a:pt x="0" y="64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5280" y="150984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87000" y="1585800"/>
            <a:ext cx="35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 se refracta pasando por el foco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6720" y="182880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de la l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20360" y="190512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 no se des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44880" y="4724280"/>
            <a:ext cx="48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3600" y="3581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124080" y="327636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82200" y="311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3429000"/>
            <a:ext cx="4267080" cy="1177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00600" y="5167440"/>
            <a:ext cx="315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magen es real, invertida y may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28800" y="34290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73392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819520"/>
            <a:ext cx="9144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2819520"/>
            <a:ext cx="4343400" cy="1915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819520"/>
            <a:ext cx="91440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endshow"/>
          </p:cNvPr>
          <p:cNvSpPr/>
          <p:nvPr/>
        </p:nvSpPr>
        <p:spPr>
          <a:xfrm>
            <a:off x="1981080" y="1676520"/>
            <a:ext cx="77760" cy="1752480"/>
          </a:xfrm>
          <a:custGeom>
            <a:avLst/>
            <a:gdLst/>
            <a:ahLst/>
            <a:rect l="l" t="t" r="r" b="b"/>
            <a:pathLst>
              <a:path w="1" h="645">
                <a:moveTo>
                  <a:pt x="0" y="0"/>
                </a:moveTo>
                <a:lnTo>
                  <a:pt x="0" y="64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37440" y="76212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58400" y="838080"/>
            <a:ext cx="35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 se refracta pasando por el foco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0400" y="114300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de la l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91760" y="115740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 no se des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40160" y="4586400"/>
            <a:ext cx="64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la prolonga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3600" y="3581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2767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82200" y="311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3429000"/>
            <a:ext cx="3124080" cy="2082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1447920"/>
            <a:ext cx="2057400" cy="137160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914400"/>
            <a:ext cx="4343400" cy="1916280"/>
          </a:xfrm>
          <a:prstGeom prst="line">
            <a:avLst/>
          </a:prstGeom>
          <a:ln w="9360">
            <a:solidFill>
              <a:srgbClr val="00cc99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9760" y="4952880"/>
            <a:ext cx="32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magen es virtual, derecha y may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12:10:47Z</dcterms:created>
  <dc:creator>fisica</dc:creator>
  <dc:description/>
  <dc:language>en-US</dc:language>
  <cp:lastModifiedBy>fisica</cp:lastModifiedBy>
  <dcterms:modified xsi:type="dcterms:W3CDTF">2005-04-28T11:28:45Z</dcterms:modified>
  <cp:revision>8</cp:revision>
  <dc:subject/>
  <dc:title>Sin título de diapositiva</dc:title>
</cp:coreProperties>
</file>