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9AF-B114-4808-A099-0DD0583B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460-A9F0-4CE2-B86B-1280CE99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5F1-F6E0-4779-9825-EC85048D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2E4-59E4-489B-B495-01B1036F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A20-49C9-478B-B5A0-BD2AB592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2EF-86F3-4427-9893-11684AA5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E2A-5C90-4D2E-BF58-2106651A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A90-ACBC-4616-BA11-E604AEED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6C8-DA16-4286-9550-45F374EB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7D5-B4EB-47DB-A5E3-EF44C025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872-A5BE-449B-B680-B20AD8C2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381-5884-42A4-BA53-12054EF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EBA6-7B6F-4F47-AD6E-B6C3799FD24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6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609480" y="3414600"/>
            <a:ext cx="4038840" cy="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75080" y="1509840"/>
            <a:ext cx="365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Los rayos llegarán paralelos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658040" y="144792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77040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791760" y="17668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388960" y="4648320"/>
            <a:ext cx="36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será en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7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V="1">
            <a:off x="16765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648320" y="3429000"/>
            <a:ext cx="3886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>
            <a:off x="684360" y="4076640"/>
            <a:ext cx="3962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2165400"/>
            <a:ext cx="4343400" cy="1915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925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425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55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7575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9075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575"/>
                            </p:stCondLst>
                            <p:childTnLst>
                              <p:par>
                                <p:cTn id="4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075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8:07Z</dcterms:created>
  <dc:creator>Julio San Miguel</dc:creator>
  <dc:description/>
  <dc:language>en-US</dc:language>
  <cp:lastModifiedBy>Julio San Miguel</cp:lastModifiedBy>
  <dcterms:modified xsi:type="dcterms:W3CDTF">2022-01-14T17:41:55Z</dcterms:modified>
  <cp:revision>2</cp:revision>
  <dc:subject/>
  <dc:title>Sin título de diapositiva</dc:title>
</cp:coreProperties>
</file>