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827A-AA2B-4457-970D-DC58C2A1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71A6-4830-4031-8ACC-D970437B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82F0-4EE8-4BD2-97F2-5F4C8DC5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82C1-9977-4F78-97E4-B4F2F007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2443-3605-48E8-9185-11AFCB07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6A78-966C-4C44-80A9-15C7402C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1B6B-DDBE-4708-8C2D-1E22DD78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21C6-F15A-4B0C-BBE6-6EFD6575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15DF-BB40-4812-ABA2-D3F3B7EA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E33E-2E9F-460F-85AE-B5D74ECB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665B-C0D6-4FAA-AE73-9ADFE713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27CB-FBC3-4437-80B9-A0F57B5A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C63E-B6E3-4083-9EB7-8A0E56F5A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34290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60199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2438280" y="281916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2819520"/>
            <a:ext cx="221004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2819520"/>
            <a:ext cx="4343400" cy="1915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38280" y="2819520"/>
            <a:ext cx="221004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8381880" y="3429000"/>
            <a:ext cx="1800" cy="1023840"/>
          </a:xfrm>
          <a:custGeom>
            <a:avLst/>
            <a:gdLst/>
            <a:ahLst/>
            <a:rect l="l" t="t" r="r" b="b"/>
            <a:pathLst>
              <a:path w="1" h="645">
                <a:moveTo>
                  <a:pt x="0" y="0"/>
                </a:moveTo>
                <a:lnTo>
                  <a:pt x="0" y="64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280" y="150984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87000" y="1585800"/>
            <a:ext cx="351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... se refracta pasando por el foco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6720" y="1828800"/>
            <a:ext cx="332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n rayo dirigido al centro de la lent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20360" y="190512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.. no se desv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44880" y="4724280"/>
            <a:ext cx="48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ntersección de los rayos dará la posición de la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3600" y="3581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23623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327636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82200" y="31100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3429000"/>
            <a:ext cx="4267080" cy="1177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00600" y="5167440"/>
            <a:ext cx="315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magen es real, invertida y may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8:09:37Z</dcterms:created>
  <dc:creator>Julio San Miguel</dc:creator>
  <dc:description/>
  <dc:language>en-US</dc:language>
  <cp:lastModifiedBy>Julio San Miguel</cp:lastModifiedBy>
  <dcterms:modified xsi:type="dcterms:W3CDTF">2005-04-24T18:10:19Z</dcterms:modified>
  <cp:revision>1</cp:revision>
  <dc:subject/>
  <dc:title>Sin título de diapositiva</dc:title>
</cp:coreProperties>
</file>