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65D8-0B54-41A0-96F0-9197401C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8E35-91F3-48D6-8414-4044C7BA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B7AF-D0A0-4971-BE18-46265B84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DCAD-861C-4D0A-AED2-C0773AB7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31EA-503A-4F32-BC03-3E023E9E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D706-B1C8-4CF6-A6CF-FEF0E1AA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0C66-3579-4AED-A591-809BA96E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0637-FA21-4EEB-B6D8-A4B2D4FB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37CE-8060-4933-8514-229F18FC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C883-DC17-4037-8A04-36A8A909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15A3-F74F-44D0-ABBD-20590619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39D4-D817-495C-964D-AD7342C7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FBC0-F54D-4CE9-9414-2B8DBCC64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42900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60199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685800" y="28191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819520"/>
            <a:ext cx="39625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2819520"/>
            <a:ext cx="4343400" cy="1915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819520"/>
            <a:ext cx="396252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6781680" y="3429000"/>
            <a:ext cx="77760" cy="338040"/>
          </a:xfrm>
          <a:custGeom>
            <a:avLst/>
            <a:gdLst/>
            <a:ahLst/>
            <a:rect l="l" t="t" r="r" b="b"/>
            <a:pathLst>
              <a:path w="1" h="645">
                <a:moveTo>
                  <a:pt x="0" y="0"/>
                </a:moveTo>
                <a:lnTo>
                  <a:pt x="0" y="64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72920" y="1509840"/>
            <a:ext cx="446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Por semejanza entre el triángulo ABC y el A’B’C 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3600" y="3429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23623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124080" y="327636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82200" y="31100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3429000"/>
            <a:ext cx="396216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4960" y="3429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4600" y="2438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3440" y="2438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31560" y="309240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54880" y="380988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85800" y="3809880"/>
            <a:ext cx="3886200" cy="337320"/>
            <a:chOff x="685800" y="3809880"/>
            <a:chExt cx="3886200" cy="337320"/>
          </a:xfrm>
        </p:grpSpPr>
        <p:sp>
          <p:nvSpPr>
            <p:cNvPr id="61" name=""/>
            <p:cNvSpPr/>
            <p:nvPr/>
          </p:nvSpPr>
          <p:spPr>
            <a:xfrm>
              <a:off x="685800" y="3886200"/>
              <a:ext cx="3886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64480" y="38098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30040" y="2819160"/>
            <a:ext cx="303480" cy="609480"/>
            <a:chOff x="230040" y="2819160"/>
            <a:chExt cx="303480" cy="609480"/>
          </a:xfrm>
        </p:grpSpPr>
        <p:sp>
          <p:nvSpPr>
            <p:cNvPr id="64" name=""/>
            <p:cNvSpPr/>
            <p:nvPr/>
          </p:nvSpPr>
          <p:spPr>
            <a:xfrm flipV="1">
              <a:off x="533520" y="28191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0040" y="2895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4800600" y="3733920"/>
            <a:ext cx="1143000" cy="337320"/>
            <a:chOff x="4800600" y="3733920"/>
            <a:chExt cx="1143000" cy="337320"/>
          </a:xfrm>
        </p:grpSpPr>
        <p:sp>
          <p:nvSpPr>
            <p:cNvPr id="67" name=""/>
            <p:cNvSpPr/>
            <p:nvPr/>
          </p:nvSpPr>
          <p:spPr>
            <a:xfrm>
              <a:off x="4800600" y="3733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84360" y="3733920"/>
              <a:ext cx="31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f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086600" y="3428640"/>
            <a:ext cx="495720" cy="337680"/>
            <a:chOff x="7086600" y="3428640"/>
            <a:chExt cx="495720" cy="337680"/>
          </a:xfrm>
        </p:grpSpPr>
        <p:sp>
          <p:nvSpPr>
            <p:cNvPr id="70" name=""/>
            <p:cNvSpPr/>
            <p:nvPr/>
          </p:nvSpPr>
          <p:spPr>
            <a:xfrm flipV="1">
              <a:off x="7086600" y="34286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65440" y="3429000"/>
              <a:ext cx="41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y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724280" y="4191120"/>
            <a:ext cx="2057400" cy="489600"/>
            <a:chOff x="4724280" y="4191120"/>
            <a:chExt cx="2057400" cy="489600"/>
          </a:xfrm>
        </p:grpSpPr>
        <p:sp>
          <p:nvSpPr>
            <p:cNvPr id="73" name=""/>
            <p:cNvSpPr/>
            <p:nvPr/>
          </p:nvSpPr>
          <p:spPr>
            <a:xfrm>
              <a:off x="4724280" y="41911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41200" y="43434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688000" y="1447920"/>
                <a:ext cx="11206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'</m:t>
                        </m:r>
                        <m:r>
                          <m:t xml:space="preserve">B</m:t>
                        </m:r>
                        <m:r>
                          <m:t xml:space="preserve">'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622080" y="4952880"/>
            <a:ext cx="455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or semejanza entre el triángulo CGF’ y el A’B’F’ 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715000" y="4800600"/>
                <a:ext cx="990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'</m:t>
                        </m:r>
                        <m:r>
                          <m:t xml:space="preserve">B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'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7288200" y="1428840"/>
                <a:ext cx="6620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010280" y="4724280"/>
                <a:ext cx="9907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'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715000" y="5410080"/>
                <a:ext cx="243828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'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'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'</m:t>
                            </m:r>
                          </m:num>
                          <m:den>
                            <m:r>
                              <m:t xml:space="preserve">f</m:t>
                            </m:r>
                            <m:r>
                              <m:t xml:space="preserve">'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'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'</m:t>
                            </m:r>
                          </m:num>
                          <m:den>
                            <m:r>
                              <m:t xml:space="preserve">f</m:t>
                            </m:r>
                            <m:r>
                              <m:t xml:space="preserve">'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'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'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f</m:t>
                            </m:r>
                            <m:r>
                              <m:t xml:space="preserve">'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f</m:t>
                            </m:r>
                            <m:r>
                              <m:t xml:space="preserve">'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'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8:02:39Z</dcterms:created>
  <dc:creator>Julio San Miguel</dc:creator>
  <dc:description/>
  <dc:language>en-US</dc:language>
  <cp:lastModifiedBy>Julio San Miguel</cp:lastModifiedBy>
  <dcterms:modified xsi:type="dcterms:W3CDTF">2005-04-19T22:25:11Z</dcterms:modified>
  <cp:revision>1</cp:revision>
  <dc:subject/>
  <dc:title>Sin título de diapositiva</dc:title>
</cp:coreProperties>
</file>