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4E3-F1DB-4673-8732-F1018CE9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A78-FA48-47D0-A045-EA5D8E7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496-38BA-487D-830E-A9C81BC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593-BD66-4F03-985A-09BE03E2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665-B858-4277-A892-6232A33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F8B-87F6-4DB2-B058-F49D4CBA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009-EB84-429D-A9B3-7FC70D9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DAE-AE80-4CEA-B074-A7FDE635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692-D4B0-49AC-A0B1-3134E93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AC-5345-461D-BFD5-10EB466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C19-4299-496B-8AFE-53EFC1D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67C-D3CE-4967-BD95-C84111C9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8186-C720-4191-ABC4-F25433AD6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4" idx="0"/>
          </p:cNvCxnSpPr>
          <p:nvPr/>
        </p:nvCxnSpPr>
        <p:spPr>
          <a:xfrm flipH="1" flipV="1">
            <a:off x="4571640" y="3123360"/>
            <a:ext cx="1905840" cy="3060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 flipH="1" flipV="1">
            <a:off x="2362320" y="2971440"/>
            <a:ext cx="22096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572000" y="3123720"/>
            <a:ext cx="4572000" cy="304920"/>
          </a:xfrm>
          <a:prstGeom prst="line">
            <a:avLst/>
          </a:prstGeom>
          <a:ln w="93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154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72000" y="3429000"/>
            <a:ext cx="19051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666880" y="3429000"/>
            <a:ext cx="19051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571640" y="3429000"/>
            <a:ext cx="4419720" cy="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2240" y="1600200"/>
            <a:ext cx="374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saliendo del punto O, formando un pequeño ángulo de incidencia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4479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atravesará la superficie de separación acercándose a la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4267080"/>
            <a:ext cx="374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Otro rayo saliendo del punto O, perpendicular a la superfici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286000"/>
            <a:ext cx="344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ra el ojo parecerá proveniente de la prolon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4956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no se desvi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5029200"/>
            <a:ext cx="480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ambas prolon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s dará el punto O’ de donde parecen provenir los ray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86400" y="34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749080" y="34146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jo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428840" cy="20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3505320" y="3124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4332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4120" y="2743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429000"/>
            <a:ext cx="4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43400" y="333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429000"/>
            <a:ext cx="4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7339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9:08:20Z</dcterms:created>
  <dc:creator>Julio San Miguel</dc:creator>
  <dc:description/>
  <dc:language>en-US</dc:language>
  <cp:lastModifiedBy>fisica</cp:lastModifiedBy>
  <dcterms:modified xsi:type="dcterms:W3CDTF">2005-04-26T10:55:50Z</dcterms:modified>
  <cp:revision>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Compression">
    <vt:r8>100</vt:r8>
  </property>
  <property fmtid="{D5CDD505-2E9C-101B-9397-08002B2CF9AE}" pid="4" name="DownloadIEButton">
    <vt:bool>1</vt:bool>
  </property>
  <property fmtid="{D5CDD505-2E9C-101B-9397-08002B2CF9AE}" pid="5" name="DownloadOriginal">
    <vt:bool>1</vt:bool>
  </property>
  <property fmtid="{D5CDD505-2E9C-101B-9397-08002B2CF9AE}" pid="6" name="GraphicType">
    <vt:r8>3</vt:r8>
  </property>
  <property fmtid="{D5CDD505-2E9C-101B-9397-08002B2CF9AE}" pid="7" name="HomePage">
    <vt:lpwstr/>
  </property>
  <property fmtid="{D5CDD505-2E9C-101B-9397-08002B2CF9AE}" pid="8" name="LinkColor">
    <vt:r8>16711782</vt:r8>
  </property>
  <property fmtid="{D5CDD505-2E9C-101B-9397-08002B2CF9AE}" pid="9" name="MailAddress">
    <vt:lpwstr/>
  </property>
  <property fmtid="{D5CDD505-2E9C-101B-9397-08002B2CF9AE}" pid="10" name="Other">
    <vt:lpwstr/>
  </property>
  <property fmtid="{D5CDD505-2E9C-101B-9397-08002B2CF9AE}" pid="11" name="ScreenSize">
    <vt:r8>2</vt:r8>
  </property>
  <property fmtid="{D5CDD505-2E9C-101B-9397-08002B2CF9AE}" pid="12" name="ScreenUsage">
    <vt:r8>1</vt:r8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UseBrowserColor">
    <vt:bool>1</vt:bool>
  </property>
  <property fmtid="{D5CDD505-2E9C-101B-9397-08002B2CF9AE}" pid="16" name="VisitedColor">
    <vt:r8>10040268</vt:r8>
  </property>
</Properties>
</file>