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6204-35EB-470F-AC28-5B7A8982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ABB0-A5BE-4E1D-A221-9815A9FD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C34-7BC1-45B4-936B-03FDAE17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2FE6-2C06-4B99-870C-B3D1BEFB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795-9492-4BC2-9731-B028CA44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E8CB-E936-4680-B799-24A630AA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269-AA03-4B77-8788-9CA6EF08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C96-6BFD-449A-9228-497EA369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1ACD-CBB3-4F6C-9C1D-8289665D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181C-1C48-47DB-B95E-8AD52A4C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DD4-ABDC-4AC4-965B-92BA0827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EA72-0CBA-4317-A504-84324716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D611-9E5F-4F6E-B93F-AD8BC9067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615240"/>
            <a:ext cx="5638680" cy="56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14" y="4156"/>
                </a:moveTo>
                <a:arcTo wR="10800" hR="10800" stAng="-2278025" swAng="4383509"/>
                <a:lnTo>
                  <a:pt x="10800" y="10800"/>
                </a:lnTo>
                <a:close/>
              </a:path>
              <a:path fill="none" w="21600" h="21600">
                <a:moveTo>
                  <a:pt x="19314" y="4156"/>
                </a:moveTo>
                <a:arcTo wR="10800" hR="10800" stAng="-2278025" swAng="4383509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4290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01992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74320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2819520"/>
            <a:ext cx="45720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428640" y="2819520"/>
            <a:ext cx="3886200" cy="18288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819520"/>
            <a:ext cx="4495680" cy="1523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743200" y="2819160"/>
            <a:ext cx="4495680" cy="1523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2819520"/>
            <a:ext cx="4638600" cy="876240"/>
          </a:xfrm>
          <a:custGeom>
            <a:avLst/>
            <a:gdLst/>
            <a:ahLst/>
            <a:rect l="l" t="t" r="r" b="b"/>
            <a:pathLst>
              <a:path w="2922" h="552">
                <a:moveTo>
                  <a:pt x="0" y="0"/>
                </a:moveTo>
                <a:lnTo>
                  <a:pt x="2922" y="552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14920" y="3714840"/>
            <a:ext cx="2657520" cy="1440"/>
          </a:xfrm>
          <a:custGeom>
            <a:avLst/>
            <a:gdLst/>
            <a:ahLst/>
            <a:rect l="l" t="t" r="r" b="b"/>
            <a:pathLst>
              <a:path w="1674" h="1">
                <a:moveTo>
                  <a:pt x="1674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429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50200" y="144792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0640" y="144792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... se reflejará pasando por el fo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9480" y="190512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Un rayo dirigido al centro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1720" y="1905120"/>
            <a:ext cx="39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... se reflejará volviendo por el mismo cam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8040" y="228600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Un rayo dirigido al fo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78760" y="228600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... se reflejará paralelo al eje óp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20840" y="472428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29560" y="295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53080" y="3186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98080" y="5257800"/>
            <a:ext cx="33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magen será real, invertida y 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7:57:37Z</dcterms:created>
  <dc:creator>Julio San Miguel</dc:creator>
  <dc:description/>
  <dc:language>en-US</dc:language>
  <cp:lastModifiedBy>Julio San Miguel</cp:lastModifiedBy>
  <dcterms:modified xsi:type="dcterms:W3CDTF">2005-04-24T17:59:11Z</dcterms:modified>
  <cp:revision>1</cp:revision>
  <dc:subject/>
  <dc:title>Sin título de diapositiva</dc:title>
</cp:coreProperties>
</file>