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8B9A-8809-4B61-8BE7-C6E8E562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A21-108E-4048-A087-D34AA4FF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349C-910A-4178-94D6-D12F1CEA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6056-FF09-47DB-9731-AF35F50F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B279-D3B7-4624-862C-10404B0C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F21B-A6F6-41E9-8624-92141C17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6068-3475-414C-B6B8-C926CE42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D68-E855-4D06-B587-10B4A307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BE4B-D492-401B-ABF6-BF6C3012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646-5531-4FD5-B179-06F0187A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A024-7982-4125-8179-4507FBC4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FF4-2BDE-477E-83BD-328FF314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5EF9-1495-4634-B0DF-5F99462F8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34290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72040" y="3286080"/>
            <a:ext cx="1800" cy="152280"/>
          </a:xfrm>
          <a:custGeom>
            <a:avLst/>
            <a:gdLst/>
            <a:ahLst/>
            <a:rect l="l" t="t" r="r" b="b"/>
            <a:pathLst>
              <a:path w="1" h="96">
                <a:moveTo>
                  <a:pt x="0" y="96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572000" y="2819160"/>
            <a:ext cx="144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2819520"/>
            <a:ext cx="2743200" cy="14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2819520"/>
            <a:ext cx="3886200" cy="1752480"/>
          </a:xfrm>
          <a:custGeom>
            <a:avLst/>
            <a:gdLst/>
            <a:ahLst/>
            <a:rect l="l" t="t" r="r" b="b"/>
            <a:pathLst>
              <a:path w="2448" h="1104">
                <a:moveTo>
                  <a:pt x="2448" y="0"/>
                </a:moveTo>
                <a:lnTo>
                  <a:pt x="0" y="1104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838600"/>
            <a:ext cx="1440" cy="3409920"/>
          </a:xfrm>
          <a:custGeom>
            <a:avLst/>
            <a:gdLst/>
            <a:ahLst/>
            <a:rect l="l" t="t" r="r" b="b"/>
            <a:pathLst>
              <a:path w="1" h="2148">
                <a:moveTo>
                  <a:pt x="0" y="0"/>
                </a:moveTo>
                <a:lnTo>
                  <a:pt x="0" y="2148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2817720"/>
            <a:ext cx="7920" cy="3430800"/>
          </a:xfrm>
          <a:custGeom>
            <a:avLst/>
            <a:gdLst/>
            <a:ahLst/>
            <a:rect l="l" t="t" r="r" b="b"/>
            <a:pathLst>
              <a:path w="5" h="2161">
                <a:moveTo>
                  <a:pt x="0" y="2161"/>
                </a:moveTo>
                <a:lnTo>
                  <a:pt x="5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819520"/>
            <a:ext cx="2762280" cy="1209600"/>
          </a:xfrm>
          <a:custGeom>
            <a:avLst/>
            <a:gdLst/>
            <a:ahLst/>
            <a:rect l="l" t="t" r="r" b="b"/>
            <a:pathLst>
              <a:path w="1740" h="762">
                <a:moveTo>
                  <a:pt x="0" y="0"/>
                </a:moveTo>
                <a:lnTo>
                  <a:pt x="1740" y="762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4038480"/>
            <a:ext cx="3590640" cy="76320"/>
          </a:xfrm>
          <a:custGeom>
            <a:avLst/>
            <a:gdLst/>
            <a:ahLst/>
            <a:rect l="l" t="t" r="r" b="b"/>
            <a:pathLst>
              <a:path w="1734" h="1">
                <a:moveTo>
                  <a:pt x="1734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4290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614520"/>
            <a:ext cx="5638680" cy="563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75" y="4366"/>
                </a:moveTo>
                <a:arcTo wR="10800" hR="10800" stAng="-2193810" swAng="4382799"/>
                <a:lnTo>
                  <a:pt x="10800" y="10800"/>
                </a:lnTo>
                <a:close/>
              </a:path>
              <a:path fill="none" w="21600" h="21600">
                <a:moveTo>
                  <a:pt x="19475" y="4366"/>
                </a:moveTo>
                <a:arcTo wR="10800" hR="10800" stAng="-2193810" swAng="4382799"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50200" y="158580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94880" y="15858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 se reflejará pasando por el fo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9480" y="190512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05960" y="1905120"/>
            <a:ext cx="39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se reflejará volviendo por el mismo cam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8040" y="228600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Un rayo dirigido al fo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93000" y="220968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... se reflejará paralelo al eje óp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44880" y="4495680"/>
            <a:ext cx="48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58560" y="4952880"/>
            <a:ext cx="31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será real, invertida e ig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76360" y="3186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53240" y="295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53080" y="3186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7:59:22Z</dcterms:created>
  <dc:creator>Julio San Miguel</dc:creator>
  <dc:description/>
  <dc:language>en-US</dc:language>
  <cp:lastModifiedBy>Julio San Miguel</cp:lastModifiedBy>
  <dcterms:modified xsi:type="dcterms:W3CDTF">2005-04-24T18:01:16Z</dcterms:modified>
  <cp:revision>1</cp:revision>
  <dc:subject/>
  <dc:title>Sin título de diapositiva</dc:title>
</cp:coreProperties>
</file>