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C17F-B097-4888-9B00-9667787EF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B99E-04A9-47CA-A2E1-82A28EEC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1DA6-020F-431B-A40A-7B9867635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C998-EAB1-4318-ACD7-D0D239465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8233-196E-4651-8FB3-12E55ED1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D060-9DC9-4C09-864A-546684B9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E55C-939A-4F6F-80E7-30CBF2DA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700F-9F6E-4D69-B676-1863F635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1BA6-A431-4CE1-83B3-29468CDC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AE6A-0C7E-45CF-970B-255011EB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14DB-3959-4932-9D57-0E86DADD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7F6D-E63E-4E9B-A5FB-D64357F5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9179-A59F-4446-BAF9-84F17D53E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342900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6019920" y="327636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3733920" y="281916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2819520"/>
            <a:ext cx="91440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48320" y="2819520"/>
            <a:ext cx="4343400" cy="191592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3920" y="2819520"/>
            <a:ext cx="914400" cy="609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endshow"/>
          </p:cNvPr>
          <p:cNvSpPr/>
          <p:nvPr/>
        </p:nvSpPr>
        <p:spPr>
          <a:xfrm>
            <a:off x="1981080" y="1676520"/>
            <a:ext cx="77760" cy="1752480"/>
          </a:xfrm>
          <a:custGeom>
            <a:avLst/>
            <a:gdLst/>
            <a:ahLst/>
            <a:rect l="l" t="t" r="r" b="b"/>
            <a:pathLst>
              <a:path w="1" h="645">
                <a:moveTo>
                  <a:pt x="0" y="0"/>
                </a:moveTo>
                <a:lnTo>
                  <a:pt x="0" y="64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37440" y="762120"/>
            <a:ext cx="27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Un rayo paralelo al eje ópti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58400" y="838080"/>
            <a:ext cx="351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... se refracta pasando por el foco im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70400" y="1143000"/>
            <a:ext cx="332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Un rayo dirigido al centro de la lent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91760" y="1157400"/>
            <a:ext cx="137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... no se desv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40160" y="4586400"/>
            <a:ext cx="64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 intersección de la prolongación de los rayos dará la posición de la im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8640" y="3414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73600" y="3581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48320" y="2362320"/>
            <a:ext cx="0" cy="21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276720" y="327636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82200" y="311004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3429000"/>
            <a:ext cx="3124080" cy="20829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1447920"/>
            <a:ext cx="2057400" cy="1371600"/>
          </a:xfrm>
          <a:prstGeom prst="line">
            <a:avLst/>
          </a:prstGeom>
          <a:ln w="9360">
            <a:solidFill>
              <a:srgbClr val="3333cc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914400"/>
            <a:ext cx="4343400" cy="1916280"/>
          </a:xfrm>
          <a:prstGeom prst="line">
            <a:avLst/>
          </a:prstGeom>
          <a:ln w="9360">
            <a:solidFill>
              <a:srgbClr val="00cc99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9760" y="4952880"/>
            <a:ext cx="329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 imagen es virtual, derecha y may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4T18:10:25Z</dcterms:created>
  <dc:creator>Julio San Miguel</dc:creator>
  <dc:description/>
  <dc:language>en-US</dc:language>
  <cp:lastModifiedBy>Julio San Miguel</cp:lastModifiedBy>
  <dcterms:modified xsi:type="dcterms:W3CDTF">2005-04-24T18:10:53Z</dcterms:modified>
  <cp:revision>1</cp:revision>
  <dc:subject/>
  <dc:title>Sin título de diapositiva</dc:title>
</cp:coreProperties>
</file>