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13B-649B-4553-AB61-D0B68060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07A-7ADD-46D6-BCA0-34576F0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761-B1C4-4FD6-ACF3-862AFB72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CC3-D1FF-43CB-9989-6F6E06BD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AB3-7611-4F72-9F41-26006390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372-6BA0-4A91-AC48-B436881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E79-A652-4FFB-89E7-558A1D16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005-BC90-420B-B865-CB95D75B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002-E5DB-4EB8-9DB8-44C4669C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1F8-903B-4299-9587-F965CDA6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ED1-AFC4-498C-923A-6E01252C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32B-AEE5-4F16-88D4-61A312C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B945-0860-4E1C-B1A4-08DE3819265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audio" Target="../media/TECLA.WAV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4550760" y="609840"/>
            <a:ext cx="563796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04" y="3131"/>
                </a:moveTo>
                <a:arcTo wR="10800" hR="10800" stAng="-2714675" swAng="5296892"/>
                <a:lnTo>
                  <a:pt x="10800" y="10800"/>
                </a:lnTo>
                <a:close/>
              </a:path>
              <a:path fill="none" w="21600" h="21600">
                <a:moveTo>
                  <a:pt x="18404" y="3131"/>
                </a:moveTo>
                <a:arcTo wR="10800" hR="10800" stAng="-2714675" swAng="5296892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7432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1879560" cy="1440"/>
          </a:xfrm>
          <a:custGeom>
            <a:avLst/>
            <a:gdLst/>
            <a:ahLst/>
            <a:rect l="l" t="t" r="r" b="b"/>
            <a:pathLst>
              <a:path w="1184" h="1">
                <a:moveTo>
                  <a:pt x="0" y="0"/>
                </a:moveTo>
                <a:lnTo>
                  <a:pt x="1184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22760" y="2819520"/>
            <a:ext cx="1397160" cy="609480"/>
          </a:xfrm>
          <a:custGeom>
            <a:avLst/>
            <a:gdLst/>
            <a:ahLst/>
            <a:rect l="l" t="t" r="r" b="b"/>
            <a:pathLst>
              <a:path w="880" h="384">
                <a:moveTo>
                  <a:pt x="0" y="0"/>
                </a:moveTo>
                <a:lnTo>
                  <a:pt x="880" y="384"/>
                </a:lnTo>
              </a:path>
            </a:pathLst>
          </a:custGeom>
          <a:noFill/>
          <a:ln w="9360">
            <a:solidFill>
              <a:srgbClr val="00cc99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819520"/>
            <a:ext cx="182880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52600" y="2766960"/>
            <a:ext cx="2219400" cy="281160"/>
          </a:xfrm>
          <a:custGeom>
            <a:avLst/>
            <a:gdLst/>
            <a:ahLst/>
            <a:rect l="l" t="t" r="r" b="b"/>
            <a:pathLst>
              <a:path w="1398" h="177">
                <a:moveTo>
                  <a:pt x="1398" y="177"/>
                </a:moveTo>
                <a:lnTo>
                  <a:pt x="554" y="6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819520"/>
            <a:ext cx="1822320" cy="349200"/>
          </a:xfrm>
          <a:custGeom>
            <a:avLst/>
            <a:gdLst/>
            <a:ahLst/>
            <a:rect l="l" t="t" r="r" b="b"/>
            <a:pathLst>
              <a:path w="1148" h="220">
                <a:moveTo>
                  <a:pt x="0" y="0"/>
                </a:moveTo>
                <a:lnTo>
                  <a:pt x="1148" y="22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8720" y="3156120"/>
            <a:ext cx="1403280" cy="1440"/>
          </a:xfrm>
          <a:custGeom>
            <a:avLst/>
            <a:gdLst/>
            <a:ahLst/>
            <a:rect l="l" t="t" r="r" b="b"/>
            <a:pathLst>
              <a:path w="884" h="1">
                <a:moveTo>
                  <a:pt x="88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5410080" y="3171960"/>
            <a:ext cx="180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16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200" y="14479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2760" y="1447920"/>
            <a:ext cx="427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su prolongación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7668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0320" y="176688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8040" y="207180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7360" y="207180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08600" y="4191120"/>
            <a:ext cx="66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s prolongaciones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8920" y="3505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6240" y="3505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209680"/>
            <a:ext cx="1498680" cy="615960"/>
          </a:xfrm>
          <a:custGeom>
            <a:avLst/>
            <a:gdLst/>
            <a:ahLst/>
            <a:rect l="l" t="t" r="r" b="b"/>
            <a:pathLst>
              <a:path w="1376" h="580">
                <a:moveTo>
                  <a:pt x="0" y="0"/>
                </a:moveTo>
                <a:lnTo>
                  <a:pt x="1376" y="58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048120"/>
            <a:ext cx="2819520" cy="380880"/>
          </a:xfrm>
          <a:custGeom>
            <a:avLst/>
            <a:gdLst/>
            <a:ahLst/>
            <a:rect l="l" t="t" r="r" b="b"/>
            <a:pathLst>
              <a:path w="2928" h="384">
                <a:moveTo>
                  <a:pt x="2928" y="384"/>
                </a:moveTo>
                <a:lnTo>
                  <a:pt x="1153" y="15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162240"/>
            <a:ext cx="1447920" cy="266760"/>
          </a:xfrm>
          <a:custGeom>
            <a:avLst/>
            <a:gdLst/>
            <a:ahLst/>
            <a:rect l="l" t="t" r="r" b="b"/>
            <a:pathLst>
              <a:path w="1770" h="336">
                <a:moveTo>
                  <a:pt x="0" y="0"/>
                </a:moveTo>
                <a:lnTo>
                  <a:pt x="1770" y="336"/>
                </a:lnTo>
              </a:path>
            </a:pathLst>
          </a:custGeom>
          <a:noFill/>
          <a:ln w="9360">
            <a:solidFill>
              <a:srgbClr val="ff33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5520" y="3168720"/>
            <a:ext cx="1746360" cy="12600"/>
          </a:xfrm>
          <a:custGeom>
            <a:avLst/>
            <a:gdLst/>
            <a:ahLst/>
            <a:rect l="l" t="t" r="r" b="b"/>
            <a:pathLst>
              <a:path w="1100" h="8">
                <a:moveTo>
                  <a:pt x="1100" y="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38280" y="472428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será virtual (formada por las prolongaciones de los rayos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ech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10:47Z</dcterms:created>
  <dc:creator>fisica</dc:creator>
  <dc:description/>
  <dc:language>en-US</dc:language>
  <cp:lastModifiedBy>fisica</cp:lastModifiedBy>
  <dcterms:modified xsi:type="dcterms:W3CDTF">2005-04-19T11:42:50Z</dcterms:modified>
  <cp:revision>9</cp:revision>
  <dc:subject/>
  <dc:title>Sin título de diapositiva</dc:title>
</cp:coreProperties>
</file>