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B0D-1364-4359-8FF7-CE8E3C92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C58-CA32-498E-839A-C10E8B3B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256-2D41-4832-BB11-D1EA484B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155-02E7-4125-B72F-3FD00461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2FD-23A9-4A53-BC37-F5AE282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CA6-0C89-4655-AFB0-26A31876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BBF-1C79-47C6-B2E5-81A5F6E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F22-A454-4EFE-968B-5830A88B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654-C63F-4A79-B7BD-1D02C864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637-70AB-45CF-8970-35CD6E8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3F2-3A2D-4CC6-B7E2-A27767C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D01-4D6A-4F54-B15D-1FDDABC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B453-7AD0-4813-B45F-9B4C79F8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58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819520"/>
            <a:ext cx="396252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781680" y="3429000"/>
            <a:ext cx="77760" cy="3380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32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040" y="144792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040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1760" y="17668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73480" y="464832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765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429000"/>
            <a:ext cx="396216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9200" y="501480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8:07Z</dcterms:created>
  <dc:creator>Julio San Miguel</dc:creator>
  <dc:description/>
  <dc:language>en-US</dc:language>
  <cp:lastModifiedBy>Julio San Miguel</cp:lastModifiedBy>
  <dcterms:modified xsi:type="dcterms:W3CDTF">2005-04-24T18:08:38Z</dcterms:modified>
  <cp:revision>1</cp:revision>
  <dc:subject/>
  <dc:title>Sin título de diapositiva</dc:title>
</cp:coreProperties>
</file>