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5C5-947F-4D25-8D56-47591556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537-8182-455B-BC86-435B9EBE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6C1-9C13-496A-9235-DED1243E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6DF-5CDF-47C3-AE47-5A462504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731-6C35-4136-8C17-7BB2CA6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D41-BF8E-451B-A110-904579E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236-66F0-4A78-B627-406CD0A9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10C-2AAA-49B2-B051-D7496F63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77F-7EC2-4F69-9B46-AA116ACB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6CC-C6D6-46DA-9EA0-CF95118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088-53E4-4192-B4CD-7605F62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A96-FDE6-46C1-ADAC-2A501E1D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4B8-8FB3-4F3F-8AAB-787DD4B9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124080" y="2819520"/>
            <a:ext cx="1524240" cy="6094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 flipV="1">
            <a:off x="3747960" y="3181320"/>
            <a:ext cx="1800" cy="247680"/>
          </a:xfrm>
          <a:custGeom>
            <a:avLst/>
            <a:gdLst/>
            <a:ahLst/>
            <a:rect l="l" t="t" r="r" b="b"/>
            <a:pathLst>
              <a:path w="1" h="156">
                <a:moveTo>
                  <a:pt x="0" y="0"/>
                </a:move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7920" y="11430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4800" y="1143000"/>
            <a:ext cx="32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su prolon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9000" y="191916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1828800"/>
            <a:ext cx="13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0360" y="473868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960" y="3581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1840" y="311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1371600" cy="379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3440" y="51814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495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48320" y="2209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7960" y="2209680"/>
            <a:ext cx="1523880" cy="60984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Julio San Miguel</cp:lastModifiedBy>
  <dcterms:modified xsi:type="dcterms:W3CDTF">2005-04-04T22:13:00Z</dcterms:modified>
  <cp:revision>8</cp:revision>
  <dc:subject/>
  <dc:title>Sin título de diapositiva</dc:title>
</cp:coreProperties>
</file>