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259-EFCD-4008-8C19-EC8AEC08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29C-DFD4-4D91-8F05-AA732682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44D-EF31-4770-AC2E-9A106079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3E3-2936-4B8F-A1AC-51807F0A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68F-3E8F-40A6-A6A0-28F3BD6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E18-891E-4F54-82F2-55475E8B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800-0683-4FD1-9731-5FACDA6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5F0-D4B4-42FB-9AFE-B2C05C34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4BF-B89D-4264-A86E-78BF3249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04D-0097-42E8-A2FA-20AD8B04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BDF-F3EC-4ED2-AD0B-69F0F5AF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216-32DF-46C4-8D75-9371E7C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CC23-3877-4A13-9A98-927B8A3A4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3800"/>
            <a:ext cx="5638680" cy="563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2" y="4204"/>
                </a:moveTo>
                <a:arcTo wR="10800" hR="10800" stAng="-2258385" swAng="4325515"/>
                <a:lnTo>
                  <a:pt x="10800" y="10800"/>
                </a:lnTo>
                <a:close/>
              </a:path>
              <a:path fill="none" w="21600" h="21600">
                <a:moveTo>
                  <a:pt x="19352" y="4204"/>
                </a:moveTo>
                <a:arcTo wR="10800" hR="10800" stAng="-2258385" swAng="4325515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3048120"/>
            <a:ext cx="2133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124080" y="3048120"/>
            <a:ext cx="426744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1280" y="3048120"/>
            <a:ext cx="685800" cy="38088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3048120"/>
            <a:ext cx="2057400" cy="1066680"/>
          </a:xfrm>
          <a:custGeom>
            <a:avLst/>
            <a:gdLst/>
            <a:ahLst/>
            <a:rect l="l" t="t" r="r" b="b"/>
            <a:pathLst>
              <a:path w="2922" h="552">
                <a:moveTo>
                  <a:pt x="0" y="0"/>
                </a:moveTo>
                <a:lnTo>
                  <a:pt x="2922" y="5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895480" y="4038480"/>
            <a:ext cx="4410360" cy="74880"/>
          </a:xfrm>
          <a:custGeom>
            <a:avLst/>
            <a:gdLst/>
            <a:ahLst/>
            <a:rect l="l" t="t" r="r" b="b"/>
            <a:pathLst>
              <a:path w="1674" h="1">
                <a:moveTo>
                  <a:pt x="167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280" y="129528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2800" y="1295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4560" y="161460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83880" y="161460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3120" y="198108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0920" y="198108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2240" y="457200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257800" y="2057400"/>
            <a:ext cx="175248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23360" y="2057400"/>
            <a:ext cx="3886200" cy="22096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9480" y="5181480"/>
            <a:ext cx="33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magen será real, invertid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3048120"/>
            <a:ext cx="228600" cy="3808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276720"/>
            <a:ext cx="3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3400" y="2881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8880" y="41148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3428280"/>
            <a:ext cx="457200" cy="6858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092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3080" y="30924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42:36Z</dcterms:created>
  <dc:creator>fisica</dc:creator>
  <dc:description/>
  <dc:language>en-US</dc:language>
  <cp:lastModifiedBy>fisica</cp:lastModifiedBy>
  <dcterms:modified xsi:type="dcterms:W3CDTF">2005-04-25T10:44:59Z</dcterms:modified>
  <cp:revision>1</cp:revision>
  <dc:subject/>
  <dc:title>Sin título de diapositiva</dc:title>
</cp:coreProperties>
</file>