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EB1-7E33-432D-96D8-2659482F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389-DA62-42A3-AF9F-05E97306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548-D02A-4D6F-B7C3-C99F4287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989-8622-4D20-96EB-0212979C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68C-2789-433B-B989-40721EB1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ACB-01CE-4C82-90CC-A550DA9F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7D0-97CE-4E8B-9783-3BBDB9BA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754-5264-4D03-A0E8-AAF9C3FA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35B-A69A-4EBE-BDCD-4E013DE1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7FB-9C16-4691-A7AC-DCC031D6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3B5-5C9E-49F9-A1C9-C988AD6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BB5-150A-4056-A16C-3F274CAC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BF9E-C1B6-4FF1-84F6-2E09242D0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15240"/>
            <a:ext cx="5638680" cy="56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4" y="4156"/>
                </a:moveTo>
                <a:arcTo wR="10800" hR="10800" stAng="-2278025" swAng="4383509"/>
                <a:lnTo>
                  <a:pt x="10800" y="10800"/>
                </a:lnTo>
                <a:close/>
              </a:path>
              <a:path fill="none" w="21600" h="21600">
                <a:moveTo>
                  <a:pt x="19314" y="4156"/>
                </a:moveTo>
                <a:arcTo wR="10800" hR="10800" stAng="-2278025" swAng="4383509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33840" y="2333520"/>
            <a:ext cx="4438440" cy="1095480"/>
          </a:xfrm>
          <a:custGeom>
            <a:avLst/>
            <a:gdLst/>
            <a:ahLst/>
            <a:rect l="l" t="t" r="r" b="b"/>
            <a:pathLst>
              <a:path w="2796" h="690">
                <a:moveTo>
                  <a:pt x="0" y="690"/>
                </a:moveTo>
                <a:lnTo>
                  <a:pt x="2796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343240"/>
            <a:ext cx="3733920" cy="2305080"/>
          </a:xfrm>
          <a:custGeom>
            <a:avLst/>
            <a:gdLst/>
            <a:ahLst/>
            <a:rect l="l" t="t" r="r" b="b"/>
            <a:pathLst>
              <a:path w="2352" h="1452">
                <a:moveTo>
                  <a:pt x="2352" y="0"/>
                </a:moveTo>
                <a:lnTo>
                  <a:pt x="0" y="1452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333520"/>
            <a:ext cx="2590920" cy="1095480"/>
          </a:xfrm>
          <a:custGeom>
            <a:avLst/>
            <a:gdLst/>
            <a:ahLst/>
            <a:rect l="l" t="t" r="r" b="b"/>
            <a:pathLst>
              <a:path w="1632" h="690">
                <a:moveTo>
                  <a:pt x="0" y="690"/>
                </a:moveTo>
                <a:lnTo>
                  <a:pt x="163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3040" y="327672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1320" y="327672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27672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236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9960" y="34290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40680" y="20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095160" y="2286000"/>
            <a:ext cx="45684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419" y="322"/>
                </a:moveTo>
                <a:arcTo wR="10800" hR="10800" stAng="-4557826" swAng="4557826"/>
                <a:lnTo>
                  <a:pt x="10800" y="10800"/>
                </a:lnTo>
                <a:close/>
              </a:path>
              <a:path fill="none" w="21600" h="21600">
                <a:moveTo>
                  <a:pt x="13419" y="322"/>
                </a:moveTo>
                <a:arcTo wR="10800" hR="10800" stAng="-4557826" swAng="455782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3120" y="25909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6120" y="27432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5400" y="27432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81280" y="3289320"/>
                <a:ext cx="15084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029200" y="3227400"/>
                <a:ext cx="1508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791320" y="3252960"/>
                <a:ext cx="125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562720" y="3490920"/>
            <a:ext cx="1752480" cy="337320"/>
            <a:chOff x="5562720" y="3490920"/>
            <a:chExt cx="1752480" cy="337320"/>
          </a:xfrm>
        </p:grpSpPr>
        <p:sp>
          <p:nvSpPr>
            <p:cNvPr id="65" name=""/>
            <p:cNvSpPr/>
            <p:nvPr/>
          </p:nvSpPr>
          <p:spPr>
            <a:xfrm>
              <a:off x="5562720" y="3581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82920" y="349092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-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648320" y="3657600"/>
            <a:ext cx="2666880" cy="337320"/>
            <a:chOff x="4648320" y="3657600"/>
            <a:chExt cx="2666880" cy="337320"/>
          </a:xfrm>
        </p:grpSpPr>
        <p:sp>
          <p:nvSpPr>
            <p:cNvPr id="68" name=""/>
            <p:cNvSpPr/>
            <p:nvPr/>
          </p:nvSpPr>
          <p:spPr>
            <a:xfrm>
              <a:off x="4648320" y="39625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7880" y="3657600"/>
              <a:ext cx="31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819520" y="4191120"/>
            <a:ext cx="4495680" cy="337320"/>
            <a:chOff x="2819520" y="4191120"/>
            <a:chExt cx="4495680" cy="337320"/>
          </a:xfrm>
        </p:grpSpPr>
        <p:sp>
          <p:nvSpPr>
            <p:cNvPr id="71" name=""/>
            <p:cNvSpPr/>
            <p:nvPr/>
          </p:nvSpPr>
          <p:spPr>
            <a:xfrm>
              <a:off x="2819520" y="41911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3120" y="4191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134000" y="112860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la aproximación paraxi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657600" y="1219320"/>
                <a:ext cx="914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g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057640" y="1066680"/>
                <a:ext cx="3200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314360" y="478620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 el triángulo OPO’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59240" y="4800600"/>
                <a:ext cx="990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406160" y="5486400"/>
            <a:ext cx="19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 el triángulo CPO’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08280" y="5481720"/>
                <a:ext cx="874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6920" y="5181480"/>
                <a:ext cx="1089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964200" y="4952880"/>
                <a:ext cx="1419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377480" y="26528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52480" y="615240"/>
            <a:ext cx="5638680" cy="56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4" y="4156"/>
                </a:moveTo>
                <a:arcTo wR="10800" hR="10800" stAng="-2278025" swAng="4383509"/>
                <a:lnTo>
                  <a:pt x="10800" y="10800"/>
                </a:lnTo>
                <a:close/>
              </a:path>
              <a:path fill="none" w="21600" h="21600">
                <a:moveTo>
                  <a:pt x="19314" y="4156"/>
                </a:moveTo>
                <a:arcTo wR="10800" hR="10800" stAng="-2278025" swAng="4383509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7432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819520"/>
            <a:ext cx="45720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28640" y="2819520"/>
            <a:ext cx="3886200" cy="182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819520"/>
            <a:ext cx="4638600" cy="609480"/>
          </a:xfrm>
          <a:custGeom>
            <a:avLst/>
            <a:gdLst/>
            <a:ahLst/>
            <a:rect l="l" t="t" r="r" b="b"/>
            <a:pathLst>
              <a:path w="2922" h="384">
                <a:moveTo>
                  <a:pt x="0" y="0"/>
                </a:moveTo>
                <a:lnTo>
                  <a:pt x="2922" y="384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57680" y="3438360"/>
            <a:ext cx="4533840" cy="638280"/>
          </a:xfrm>
          <a:custGeom>
            <a:avLst/>
            <a:gdLst/>
            <a:ahLst/>
            <a:rect l="l" t="t" r="r" b="b"/>
            <a:pathLst>
              <a:path w="2856" h="402">
                <a:moveTo>
                  <a:pt x="2856" y="0"/>
                </a:moveTo>
                <a:lnTo>
                  <a:pt x="0" y="402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2819520"/>
            <a:ext cx="4638600" cy="876240"/>
          </a:xfrm>
          <a:custGeom>
            <a:avLst/>
            <a:gdLst/>
            <a:ahLst/>
            <a:rect l="l" t="t" r="r" b="b"/>
            <a:pathLst>
              <a:path w="2922" h="552">
                <a:moveTo>
                  <a:pt x="0" y="0"/>
                </a:moveTo>
                <a:lnTo>
                  <a:pt x="2922" y="55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4920" y="3714840"/>
            <a:ext cx="2657520" cy="1440"/>
          </a:xfrm>
          <a:custGeom>
            <a:avLst/>
            <a:gdLst/>
            <a:ahLst/>
            <a:rect l="l" t="t" r="r" b="b"/>
            <a:pathLst>
              <a:path w="1674" h="1">
                <a:moveTo>
                  <a:pt x="167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429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86400" y="3719520"/>
            <a:ext cx="1752480" cy="337320"/>
            <a:chOff x="5486400" y="3719520"/>
            <a:chExt cx="1752480" cy="337320"/>
          </a:xfrm>
        </p:grpSpPr>
        <p:sp>
          <p:nvSpPr>
            <p:cNvPr id="100" name=""/>
            <p:cNvSpPr/>
            <p:nvPr/>
          </p:nvSpPr>
          <p:spPr>
            <a:xfrm>
              <a:off x="5486400" y="38098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06600" y="371952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-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743200" y="4419720"/>
            <a:ext cx="4495680" cy="337320"/>
            <a:chOff x="2743200" y="4419720"/>
            <a:chExt cx="4495680" cy="337320"/>
          </a:xfrm>
        </p:grpSpPr>
        <p:sp>
          <p:nvSpPr>
            <p:cNvPr id="103" name=""/>
            <p:cNvSpPr/>
            <p:nvPr/>
          </p:nvSpPr>
          <p:spPr>
            <a:xfrm>
              <a:off x="2743200" y="44197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26800" y="4419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 flipV="1" rot="1660200">
            <a:off x="6151320" y="3042000"/>
            <a:ext cx="45684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419" y="322"/>
                </a:moveTo>
                <a:arcTo wR="10800" hR="10800" stAng="-4557826" swAng="4557826"/>
                <a:lnTo>
                  <a:pt x="10800" y="10800"/>
                </a:lnTo>
                <a:close/>
              </a:path>
              <a:path fill="none" w="21600" h="21600">
                <a:moveTo>
                  <a:pt x="13419" y="322"/>
                </a:moveTo>
                <a:arcTo wR="10800" hR="10800" stAng="-4557826" swAng="455782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3120" y="3092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6120" y="34290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5400" y="34290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h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4000" y="112860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la aproximación paraxi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657600" y="1219320"/>
                <a:ext cx="914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g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38360" y="1666800"/>
                <a:ext cx="17524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i'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-h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621320" y="1666800"/>
                <a:ext cx="8157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1:45:06Z</dcterms:created>
  <dc:creator>fisica</dc:creator>
  <dc:description/>
  <dc:language>en-US</dc:language>
  <cp:lastModifiedBy>fisica</cp:lastModifiedBy>
  <dcterms:modified xsi:type="dcterms:W3CDTF">2005-04-20T12:31:55Z</dcterms:modified>
  <cp:revision>2</cp:revision>
  <dc:subject/>
  <dc:title>Sin título de diapositiva</dc:title>
</cp:coreProperties>
</file>