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455-7DAA-4B68-BEA3-ECE91AEF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B39-487D-499D-996E-A115EF89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E72-4D79-4E70-B67F-2F3B5CB2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E29-FDC5-4286-B767-DA534A00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2B4-E72A-405A-AA39-15E38DB1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C3D-43BC-45D3-B950-344ECA17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943-CF9A-46A4-B872-3160A655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0B1-B8C0-406E-88F9-C416F2BB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F7C-4EA7-4F9C-98B0-2470E6E4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193-2069-487B-BDFA-42396AE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6A9-B27F-4C16-B11B-A1EAE890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26A-9C30-4898-853B-723DAAA1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FFA3-D6B2-4DE3-A69C-C6EA6C5C5E4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 flipV="1">
            <a:off x="6858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685800" y="2819520"/>
            <a:ext cx="396252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>
            <a:hlinkClick r:id="" action="ppaction://hlinkshowjump?jump=endshow"/>
          </p:cNvPr>
          <p:cNvSpPr/>
          <p:nvPr/>
        </p:nvSpPr>
        <p:spPr>
          <a:xfrm>
            <a:off x="6781680" y="3429000"/>
            <a:ext cx="77760" cy="3380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932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58040" y="144792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77040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6791760" y="17668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2373480" y="464832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979000" y="3403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"/>
          <p:cNvSpPr/>
          <p:nvPr/>
        </p:nvSpPr>
        <p:spPr>
          <a:xfrm flipV="1">
            <a:off x="16765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1473120" y="341784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648320" y="3429000"/>
            <a:ext cx="396216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229200" y="501480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magen es real, invertid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2 Conector recto de flecha"/>
          <p:cNvCxnSpPr/>
          <p:nvPr/>
        </p:nvCxnSpPr>
        <p:spPr>
          <a:xfrm>
            <a:off x="685440" y="3881160"/>
            <a:ext cx="39632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3" name="26 Conector recto de flecha"/>
          <p:cNvCxnSpPr/>
          <p:nvPr/>
        </p:nvCxnSpPr>
        <p:spPr>
          <a:xfrm flipV="1">
            <a:off x="4648320" y="3766320"/>
            <a:ext cx="1372320" cy="10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" name="27 Conector recto de flecha"/>
          <p:cNvCxnSpPr/>
          <p:nvPr/>
        </p:nvCxnSpPr>
        <p:spPr>
          <a:xfrm>
            <a:off x="4648320" y="3881160"/>
            <a:ext cx="21405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" name="5 CuadroTexto"/>
          <p:cNvSpPr/>
          <p:nvPr/>
        </p:nvSpPr>
        <p:spPr>
          <a:xfrm>
            <a:off x="2436120" y="38037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31 CuadroTexto"/>
          <p:cNvSpPr/>
          <p:nvPr/>
        </p:nvSpPr>
        <p:spPr>
          <a:xfrm>
            <a:off x="5068080" y="3494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32 CuadroTexto"/>
          <p:cNvSpPr/>
          <p:nvPr/>
        </p:nvSpPr>
        <p:spPr>
          <a:xfrm>
            <a:off x="5446080" y="3876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225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725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3275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4775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825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975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125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275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8:07Z</dcterms:created>
  <dc:creator>Julio San Miguel</dc:creator>
  <dc:description/>
  <dc:language>en-US</dc:language>
  <cp:lastModifiedBy>Julio San Miguel</cp:lastModifiedBy>
  <dcterms:modified xsi:type="dcterms:W3CDTF">2024-01-06T18:55:58Z</dcterms:modified>
  <cp:revision>8</cp:revision>
  <dc:subject/>
  <dc:title>Sin título de diapositiva</dc:title>
</cp:coreProperties>
</file>