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1AC-AF40-4963-A274-68FCE2A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E8A-8612-4A1F-9E11-33BA72D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AE4-4C1E-4D88-ABB8-0AB2AD1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65F-4020-4AC7-808B-CB4E73F5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532-4172-4114-9837-0FCA3AD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E3F-C231-4E54-8031-D341202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C87-9B3F-457E-84AE-E129E1C2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CA-94D5-4F97-A8A6-6DE31EA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172-F346-414B-B189-567612C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E58-A803-4326-BA97-FE58113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B17-FD56-4D0C-948B-749D782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3B6-022C-4A81-9BE8-05B293D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C54E-922E-40B9-A4E3-FEB236B79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80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257800" y="3048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8120"/>
            <a:ext cx="2133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124080" y="3048120"/>
            <a:ext cx="426744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1280" y="3048120"/>
            <a:ext cx="685800" cy="3808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048120"/>
            <a:ext cx="2057400" cy="106668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95480" y="4038480"/>
            <a:ext cx="4410360" cy="7488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198108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70920" y="19810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92240" y="457200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057400"/>
            <a:ext cx="175248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23360" y="2057400"/>
            <a:ext cx="3886200" cy="22096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518148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1:22Z</dcterms:created>
  <dc:creator>Julio San Miguel</dc:creator>
  <dc:description/>
  <dc:language>en-US</dc:language>
  <cp:lastModifiedBy>Julio San Miguel</cp:lastModifiedBy>
  <dcterms:modified xsi:type="dcterms:W3CDTF">2005-04-24T18:02:04Z</dcterms:modified>
  <cp:revision>1</cp:revision>
  <dc:subject/>
  <dc:title>Sin título de diapositiva</dc:title>
</cp:coreProperties>
</file>