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3C9-A444-4F8C-BA90-FB9BF3B9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7D5-3886-44E3-87F7-6483ADE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487-0078-49BE-9716-C0185582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C32-82CE-46F0-B6FC-1D529C2A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0B1-734B-4E05-9DC9-1DEFEFE3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867-509E-4C81-ABF5-AB197CEB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8BB-6D7E-4295-8A5A-C32D1614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A9A-8561-48FE-A646-AC2BF9D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CA4-1C89-48E5-9620-9C7C19D9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694-856A-4A3E-B77F-E5B488F8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1F9-0027-43C5-B9B6-280FDAB0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187-E8CD-4000-B0CF-4869593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C083-3EAE-4240-99D4-67C39C1C6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02640"/>
            <a:ext cx="5638680" cy="563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2" y="4204"/>
                </a:moveTo>
                <a:arcTo wR="10800" hR="10800" stAng="-2258385" swAng="4325515"/>
                <a:lnTo>
                  <a:pt x="10800" y="10800"/>
                </a:lnTo>
                <a:close/>
              </a:path>
              <a:path fill="none" w="21600" h="21600">
                <a:moveTo>
                  <a:pt x="19352" y="4204"/>
                </a:moveTo>
                <a:arcTo wR="10800" hR="10800" stAng="-2258385" swAng="4325515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012000" y="30686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068640"/>
            <a:ext cx="136836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195640" y="3068640"/>
            <a:ext cx="5184720" cy="1368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280" y="129528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72800" y="1295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560" y="161460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83880" y="161460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4760" y="4572000"/>
            <a:ext cx="50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rayos salen paralelos y la imagen se forma en el infin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744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3500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25560"/>
            <a:ext cx="2717640" cy="703440"/>
          </a:xfrm>
          <a:custGeom>
            <a:avLst/>
            <a:gdLst/>
            <a:ahLst/>
            <a:rect l="l" t="t" r="r" b="b"/>
            <a:pathLst>
              <a:path w="1712" h="443">
                <a:moveTo>
                  <a:pt x="0" y="443"/>
                </a:moveTo>
                <a:lnTo>
                  <a:pt x="1712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16280" y="2725560"/>
            <a:ext cx="5406840" cy="1366920"/>
          </a:xfrm>
          <a:custGeom>
            <a:avLst/>
            <a:gdLst/>
            <a:ahLst/>
            <a:rect l="l" t="t" r="r" b="b"/>
            <a:pathLst>
              <a:path w="3406" h="861">
                <a:moveTo>
                  <a:pt x="0" y="861"/>
                </a:moveTo>
                <a:lnTo>
                  <a:pt x="3406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1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6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85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5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675"/>
                            </p:stCondLst>
                            <p:childTnLst>
                              <p:par>
                                <p:cTn id="2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175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100"/>
                            </p:stCondLst>
                            <p:childTnLst>
                              <p:par>
                                <p:cTn id="3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96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1:22Z</dcterms:created>
  <dc:creator>Julio San Miguel</dc:creator>
  <dc:description/>
  <dc:language>en-US</dc:language>
  <cp:lastModifiedBy>julio</cp:lastModifiedBy>
  <dcterms:modified xsi:type="dcterms:W3CDTF">2008-04-18T09:26:07Z</dcterms:modified>
  <cp:revision>2</cp:revision>
  <dc:subject/>
  <dc:title>Sin título de diapositiva</dc:title>
</cp:coreProperties>
</file>