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10.png" ContentType="image/png"/>
  <Override PartName="/ppt/media/image26.jpeg" ContentType="image/jpeg"/>
  <Override PartName="/ppt/media/image23.png" ContentType="image/png"/>
  <Override PartName="/ppt/media/image22.png" ContentType="image/png"/>
  <Override PartName="/ppt/media/image5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AFDF-6F80-4A94-8665-F2FC1650C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9CAD-C833-448D-BE53-08899C32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7645-0F2B-44C6-A444-1C1908075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1773-D6D6-461C-964F-9FC7CE4B6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9264-661A-457C-8802-CDEA5073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28C6-44C4-45A3-A5B8-2BDC7CEF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B1CC-D368-4A8E-B0B8-50CCCCC8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2C59-B4C4-454E-9164-7BAD4CC7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E92C-DABF-4EB0-9E9A-3FC7834D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4FAE-35C9-459C-8C43-069B6A77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DB7F-8B59-4A8A-8477-2CC804FE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802F-243F-47ED-880C-9468E025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68AA-D04F-4BC0-89D2-98CB6777763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image" Target="../media/image25.jpeg"/><Relationship Id="rId2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go" descr=""/>
          <p:cNvPicPr/>
          <p:nvPr/>
        </p:nvPicPr>
        <p:blipFill>
          <a:blip r:embed="rId2"/>
          <a:stretch/>
        </p:blipFill>
        <p:spPr>
          <a:xfrm>
            <a:off x="1676520" y="2209680"/>
            <a:ext cx="6095880" cy="1868760"/>
          </a:xfrm>
          <a:prstGeom prst="rect">
            <a:avLst/>
          </a:prstGeom>
          <a:ln w="0">
            <a:noFill/>
          </a:ln>
        </p:spPr>
      </p:pic>
      <p:pic>
        <p:nvPicPr>
          <p:cNvPr id="42" name="bonka_b" descr=""/>
          <p:cNvPicPr/>
          <p:nvPr/>
        </p:nvPicPr>
        <p:blipFill>
          <a:blip r:embed="rId3"/>
          <a:stretch/>
        </p:blipFill>
        <p:spPr>
          <a:xfrm>
            <a:off x="1676520" y="5410080"/>
            <a:ext cx="582480" cy="365400"/>
          </a:xfrm>
          <a:prstGeom prst="rect">
            <a:avLst/>
          </a:prstGeom>
          <a:ln w="0">
            <a:noFill/>
          </a:ln>
        </p:spPr>
      </p:pic>
      <p:pic>
        <p:nvPicPr>
          <p:cNvPr id="43" name="buitoni_b" descr=""/>
          <p:cNvPicPr/>
          <p:nvPr/>
        </p:nvPicPr>
        <p:blipFill>
          <a:blip r:embed="rId4"/>
          <a:stretch/>
        </p:blipFill>
        <p:spPr>
          <a:xfrm>
            <a:off x="2514600" y="5410080"/>
            <a:ext cx="708120" cy="365400"/>
          </a:xfrm>
          <a:prstGeom prst="rect">
            <a:avLst/>
          </a:prstGeom>
          <a:ln w="0">
            <a:noFill/>
          </a:ln>
        </p:spPr>
      </p:pic>
      <p:pic>
        <p:nvPicPr>
          <p:cNvPr id="44" name="camy_b" descr=""/>
          <p:cNvPicPr/>
          <p:nvPr/>
        </p:nvPicPr>
        <p:blipFill>
          <a:blip r:embed="rId5"/>
          <a:stretch/>
        </p:blipFill>
        <p:spPr>
          <a:xfrm>
            <a:off x="3505320" y="5410080"/>
            <a:ext cx="468360" cy="365400"/>
          </a:xfrm>
          <a:prstGeom prst="rect">
            <a:avLst/>
          </a:prstGeom>
          <a:ln w="0">
            <a:noFill/>
          </a:ln>
        </p:spPr>
      </p:pic>
      <p:pic>
        <p:nvPicPr>
          <p:cNvPr id="45" name="cereales_2" descr=""/>
          <p:cNvPicPr/>
          <p:nvPr/>
        </p:nvPicPr>
        <p:blipFill>
          <a:blip r:embed="rId6"/>
          <a:stretch/>
        </p:blipFill>
        <p:spPr>
          <a:xfrm>
            <a:off x="457200" y="4343400"/>
            <a:ext cx="650880" cy="378000"/>
          </a:xfrm>
          <a:prstGeom prst="rect">
            <a:avLst/>
          </a:prstGeom>
          <a:ln w="0">
            <a:noFill/>
          </a:ln>
        </p:spPr>
      </p:pic>
      <p:pic>
        <p:nvPicPr>
          <p:cNvPr id="46" name="crunch_b" descr=""/>
          <p:cNvPicPr/>
          <p:nvPr/>
        </p:nvPicPr>
        <p:blipFill>
          <a:blip r:embed="rId7"/>
          <a:stretch/>
        </p:blipFill>
        <p:spPr>
          <a:xfrm>
            <a:off x="5334120" y="5410080"/>
            <a:ext cx="639720" cy="365400"/>
          </a:xfrm>
          <a:prstGeom prst="rect">
            <a:avLst/>
          </a:prstGeom>
          <a:ln w="0">
            <a:noFill/>
          </a:ln>
        </p:spPr>
      </p:pic>
      <p:pic>
        <p:nvPicPr>
          <p:cNvPr id="47" name="eko_b" descr=""/>
          <p:cNvPicPr/>
          <p:nvPr/>
        </p:nvPicPr>
        <p:blipFill>
          <a:blip r:embed="rId8"/>
          <a:stretch/>
        </p:blipFill>
        <p:spPr>
          <a:xfrm>
            <a:off x="6324480" y="5410080"/>
            <a:ext cx="514440" cy="365400"/>
          </a:xfrm>
          <a:prstGeom prst="rect">
            <a:avLst/>
          </a:prstGeom>
          <a:ln w="0">
            <a:noFill/>
          </a:ln>
        </p:spPr>
      </p:pic>
      <p:pic>
        <p:nvPicPr>
          <p:cNvPr id="48" name="flor_b" descr=""/>
          <p:cNvPicPr/>
          <p:nvPr/>
        </p:nvPicPr>
        <p:blipFill>
          <a:blip r:embed="rId9"/>
          <a:stretch/>
        </p:blipFill>
        <p:spPr>
          <a:xfrm>
            <a:off x="7162920" y="5410080"/>
            <a:ext cx="720720" cy="365400"/>
          </a:xfrm>
          <a:prstGeom prst="rect">
            <a:avLst/>
          </a:prstGeom>
          <a:ln w="0">
            <a:noFill/>
          </a:ln>
        </p:spPr>
      </p:pic>
      <p:pic>
        <p:nvPicPr>
          <p:cNvPr id="49" name="food_b" descr=""/>
          <p:cNvPicPr/>
          <p:nvPr/>
        </p:nvPicPr>
        <p:blipFill>
          <a:blip r:embed="rId10"/>
          <a:stretch/>
        </p:blipFill>
        <p:spPr>
          <a:xfrm>
            <a:off x="8001000" y="4343400"/>
            <a:ext cx="593640" cy="343080"/>
          </a:xfrm>
          <a:prstGeom prst="rect">
            <a:avLst/>
          </a:prstGeom>
          <a:ln w="0">
            <a:noFill/>
          </a:ln>
        </p:spPr>
      </p:pic>
      <p:pic>
        <p:nvPicPr>
          <p:cNvPr id="50" name="kitkat_b" descr=""/>
          <p:cNvPicPr/>
          <p:nvPr/>
        </p:nvPicPr>
        <p:blipFill>
          <a:blip r:embed="rId11"/>
          <a:stretch/>
        </p:blipFill>
        <p:spPr>
          <a:xfrm>
            <a:off x="457200" y="2057400"/>
            <a:ext cx="549360" cy="365040"/>
          </a:xfrm>
          <a:prstGeom prst="rect">
            <a:avLst/>
          </a:prstGeom>
          <a:ln w="0">
            <a:noFill/>
          </a:ln>
        </p:spPr>
      </p:pic>
      <p:pic>
        <p:nvPicPr>
          <p:cNvPr id="51" name="lechera_b" descr=""/>
          <p:cNvPicPr/>
          <p:nvPr/>
        </p:nvPicPr>
        <p:blipFill>
          <a:blip r:embed="rId12"/>
          <a:stretch/>
        </p:blipFill>
        <p:spPr>
          <a:xfrm>
            <a:off x="457200" y="5410080"/>
            <a:ext cx="696960" cy="365400"/>
          </a:xfrm>
          <a:prstGeom prst="rect">
            <a:avLst/>
          </a:prstGeom>
          <a:ln w="0">
            <a:noFill/>
          </a:ln>
        </p:spPr>
      </p:pic>
      <p:pic>
        <p:nvPicPr>
          <p:cNvPr id="52" name="litoral_b" descr=""/>
          <p:cNvPicPr/>
          <p:nvPr/>
        </p:nvPicPr>
        <p:blipFill>
          <a:blip r:embed="rId13"/>
          <a:stretch/>
        </p:blipFill>
        <p:spPr>
          <a:xfrm>
            <a:off x="4732200" y="838080"/>
            <a:ext cx="731880" cy="263520"/>
          </a:xfrm>
          <a:prstGeom prst="rect">
            <a:avLst/>
          </a:prstGeom>
          <a:ln w="0">
            <a:noFill/>
          </a:ln>
        </p:spPr>
      </p:pic>
      <p:pic>
        <p:nvPicPr>
          <p:cNvPr id="53" name="maggi_b" descr=""/>
          <p:cNvPicPr/>
          <p:nvPr/>
        </p:nvPicPr>
        <p:blipFill>
          <a:blip r:embed="rId14"/>
          <a:stretch/>
        </p:blipFill>
        <p:spPr>
          <a:xfrm>
            <a:off x="3894120" y="762120"/>
            <a:ext cx="606600" cy="365040"/>
          </a:xfrm>
          <a:prstGeom prst="rect">
            <a:avLst/>
          </a:prstGeom>
          <a:ln w="0">
            <a:noFill/>
          </a:ln>
        </p:spPr>
      </p:pic>
      <p:pic>
        <p:nvPicPr>
          <p:cNvPr id="54" name="milkybar_b" descr=""/>
          <p:cNvPicPr/>
          <p:nvPr/>
        </p:nvPicPr>
        <p:blipFill>
          <a:blip r:embed="rId15"/>
          <a:stretch/>
        </p:blipFill>
        <p:spPr>
          <a:xfrm>
            <a:off x="2819520" y="762120"/>
            <a:ext cx="639720" cy="365040"/>
          </a:xfrm>
          <a:prstGeom prst="rect">
            <a:avLst/>
          </a:prstGeom>
          <a:ln w="0">
            <a:noFill/>
          </a:ln>
        </p:spPr>
      </p:pic>
      <p:pic>
        <p:nvPicPr>
          <p:cNvPr id="55" name="nescafe_b" descr=""/>
          <p:cNvPicPr/>
          <p:nvPr/>
        </p:nvPicPr>
        <p:blipFill>
          <a:blip r:embed="rId16"/>
          <a:stretch/>
        </p:blipFill>
        <p:spPr>
          <a:xfrm>
            <a:off x="1676520" y="762120"/>
            <a:ext cx="788760" cy="365040"/>
          </a:xfrm>
          <a:prstGeom prst="rect">
            <a:avLst/>
          </a:prstGeom>
          <a:ln w="0">
            <a:noFill/>
          </a:ln>
        </p:spPr>
      </p:pic>
      <p:pic>
        <p:nvPicPr>
          <p:cNvPr id="56" name="nesquik_b" descr=""/>
          <p:cNvPicPr/>
          <p:nvPr/>
        </p:nvPicPr>
        <p:blipFill>
          <a:blip r:embed="rId17"/>
          <a:stretch/>
        </p:blipFill>
        <p:spPr>
          <a:xfrm>
            <a:off x="457200" y="762120"/>
            <a:ext cx="617400" cy="411120"/>
          </a:xfrm>
          <a:prstGeom prst="rect">
            <a:avLst/>
          </a:prstGeom>
          <a:ln w="0">
            <a:noFill/>
          </a:ln>
        </p:spPr>
      </p:pic>
      <p:pic>
        <p:nvPicPr>
          <p:cNvPr id="57" name="nestlechoc_b" descr=""/>
          <p:cNvPicPr/>
          <p:nvPr/>
        </p:nvPicPr>
        <p:blipFill>
          <a:blip r:embed="rId18"/>
          <a:stretch/>
        </p:blipFill>
        <p:spPr>
          <a:xfrm>
            <a:off x="5646600" y="762120"/>
            <a:ext cx="549360" cy="365040"/>
          </a:xfrm>
          <a:prstGeom prst="rect">
            <a:avLst/>
          </a:prstGeom>
          <a:ln w="0">
            <a:noFill/>
          </a:ln>
        </p:spPr>
      </p:pic>
      <p:pic>
        <p:nvPicPr>
          <p:cNvPr id="58" name="nestleref_b" descr=""/>
          <p:cNvPicPr/>
          <p:nvPr/>
        </p:nvPicPr>
        <p:blipFill>
          <a:blip r:embed="rId19"/>
          <a:stretch/>
        </p:blipFill>
        <p:spPr>
          <a:xfrm>
            <a:off x="457200" y="3352680"/>
            <a:ext cx="628560" cy="343080"/>
          </a:xfrm>
          <a:prstGeom prst="rect">
            <a:avLst/>
          </a:prstGeom>
          <a:ln w="0">
            <a:noFill/>
          </a:ln>
        </p:spPr>
      </p:pic>
      <p:pic>
        <p:nvPicPr>
          <p:cNvPr id="59" name="solis_b" descr=""/>
          <p:cNvPicPr/>
          <p:nvPr/>
        </p:nvPicPr>
        <p:blipFill>
          <a:blip r:embed="rId20"/>
          <a:stretch/>
        </p:blipFill>
        <p:spPr>
          <a:xfrm>
            <a:off x="8001000" y="3200400"/>
            <a:ext cx="571680" cy="365040"/>
          </a:xfrm>
          <a:prstGeom prst="rect">
            <a:avLst/>
          </a:prstGeom>
          <a:ln w="0">
            <a:noFill/>
          </a:ln>
        </p:spPr>
      </p:pic>
      <p:pic>
        <p:nvPicPr>
          <p:cNvPr id="60" name="sveltesse_b" descr=""/>
          <p:cNvPicPr/>
          <p:nvPr/>
        </p:nvPicPr>
        <p:blipFill>
          <a:blip r:embed="rId21"/>
          <a:stretch/>
        </p:blipFill>
        <p:spPr>
          <a:xfrm>
            <a:off x="8077320" y="2057400"/>
            <a:ext cx="549000" cy="378000"/>
          </a:xfrm>
          <a:prstGeom prst="rect">
            <a:avLst/>
          </a:prstGeom>
          <a:ln w="0">
            <a:noFill/>
          </a:ln>
        </p:spPr>
      </p:pic>
      <p:pic>
        <p:nvPicPr>
          <p:cNvPr id="61" name="home_1" descr=""/>
          <p:cNvPicPr/>
          <p:nvPr/>
        </p:nvPicPr>
        <p:blipFill>
          <a:blip r:embed="rId22"/>
          <a:stretch/>
        </p:blipFill>
        <p:spPr>
          <a:xfrm>
            <a:off x="7924680" y="838080"/>
            <a:ext cx="685800" cy="293760"/>
          </a:xfrm>
          <a:prstGeom prst="rect">
            <a:avLst/>
          </a:prstGeom>
          <a:ln w="0">
            <a:noFill/>
          </a:ln>
        </p:spPr>
      </p:pic>
      <p:pic>
        <p:nvPicPr>
          <p:cNvPr id="62" name="home_2" descr=""/>
          <p:cNvPicPr/>
          <p:nvPr/>
        </p:nvPicPr>
        <p:blipFill>
          <a:blip r:embed="rId23"/>
          <a:stretch/>
        </p:blipFill>
        <p:spPr>
          <a:xfrm>
            <a:off x="6629400" y="762120"/>
            <a:ext cx="682560" cy="420480"/>
          </a:xfrm>
          <a:prstGeom prst="rect">
            <a:avLst/>
          </a:prstGeom>
          <a:ln w="0">
            <a:noFill/>
          </a:ln>
        </p:spPr>
      </p:pic>
      <p:pic>
        <p:nvPicPr>
          <p:cNvPr id="63" name="perrier" descr=""/>
          <p:cNvPicPr/>
          <p:nvPr/>
        </p:nvPicPr>
        <p:blipFill>
          <a:blip r:embed="rId24"/>
          <a:stretch/>
        </p:blipFill>
        <p:spPr>
          <a:xfrm>
            <a:off x="4267080" y="5257800"/>
            <a:ext cx="609840" cy="546120"/>
          </a:xfrm>
          <a:prstGeom prst="rect">
            <a:avLst/>
          </a:prstGeom>
          <a:ln w="0">
            <a:noFill/>
          </a:ln>
        </p:spPr>
      </p:pic>
      <p:pic>
        <p:nvPicPr>
          <p:cNvPr id="64" name="vittel" descr=""/>
          <p:cNvPicPr/>
          <p:nvPr/>
        </p:nvPicPr>
        <p:blipFill>
          <a:blip r:embed="rId25"/>
          <a:stretch/>
        </p:blipFill>
        <p:spPr>
          <a:xfrm>
            <a:off x="8305920" y="5181480"/>
            <a:ext cx="290520" cy="797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2895480" y="4191120"/>
            <a:ext cx="369576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badi MT Condensed Light"/>
              </a:rPr>
              <a:t>Joaquín Segura Tiñen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badi MT Condensed Light"/>
              <a:ea typeface="Abadi MT Condensed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badi MT Condensed Light"/>
              </a:rPr>
              <a:t>Orígenes y Evolución de </a:t>
            </a:r>
            <a:r>
              <a:rPr b="1" lang="en-US" sz="4400" spc="-1" strike="noStrike">
                <a:solidFill>
                  <a:srgbClr val="ff6600"/>
                </a:solidFill>
                <a:latin typeface="Abadi MT Condensed Light"/>
              </a:rPr>
              <a:t>Nestlé</a:t>
            </a:r>
            <a:r>
              <a:rPr b="1" lang="en-US" sz="4400" spc="-1" strike="noStrike">
                <a:solidFill>
                  <a:srgbClr val="000000"/>
                </a:solidFill>
                <a:latin typeface="Abadi MT Condensed Light"/>
              </a:rPr>
              <a:t>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badi MT Condensed Light"/>
                <a:ea typeface="Times New Roman"/>
              </a:rPr>
              <a:t>1866: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 Fundación de la compañí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badi MT Condensed Light"/>
                <a:ea typeface="Times New Roman"/>
              </a:rPr>
              <a:t>1905: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 Fusión entre Nestlé y </a:t>
            </a:r>
            <a:r>
              <a:rPr b="0" lang="es-ES" sz="2200" spc="-1" strike="noStrike">
                <a:solidFill>
                  <a:srgbClr val="ff6600"/>
                </a:solidFill>
                <a:latin typeface="Abadi MT Condensed Light"/>
                <a:ea typeface="Times New Roman"/>
              </a:rPr>
              <a:t>Anglo-Swiss Condensed Milk Company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badi MT Condensed Light"/>
                <a:ea typeface="Times New Roman"/>
              </a:rPr>
              <a:t>1929: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 Fusión con </a:t>
            </a:r>
            <a:r>
              <a:rPr b="0" lang="es-ES" sz="2200" spc="-1" strike="noStrike">
                <a:solidFill>
                  <a:srgbClr val="ff6600"/>
                </a:solidFill>
                <a:latin typeface="Abadi MT Condensed Light"/>
                <a:ea typeface="Times New Roman"/>
              </a:rPr>
              <a:t>Suisses S.A.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 de Peter-Cailler-Kohler Chocola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badi MT Condensed Light"/>
                <a:ea typeface="Times New Roman"/>
              </a:rPr>
              <a:t>1947: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 Fusión con </a:t>
            </a:r>
            <a:r>
              <a:rPr b="0" lang="es-ES" sz="2200" spc="-1" strike="noStrike">
                <a:solidFill>
                  <a:srgbClr val="ff6600"/>
                </a:solidFill>
                <a:latin typeface="Abadi MT Condensed Light"/>
                <a:ea typeface="Times New Roman"/>
              </a:rPr>
              <a:t>Alimentana S.A.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 (Maggi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badi MT Condensed Light"/>
                <a:ea typeface="Times New Roman"/>
              </a:rPr>
              <a:t>1960: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 Adquisición de </a:t>
            </a:r>
            <a:r>
              <a:rPr b="0" lang="es-ES" sz="2200" spc="-1" strike="noStrike">
                <a:solidFill>
                  <a:srgbClr val="ff6600"/>
                </a:solidFill>
                <a:latin typeface="Abadi MT Condensed Light"/>
                <a:ea typeface="Times New Roman"/>
              </a:rPr>
              <a:t>Crosse and Blackwell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 (GB: alimentos de conserva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badi MT Condensed Light"/>
                <a:ea typeface="Times New Roman"/>
              </a:rPr>
              <a:t>1961: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 Nestlé adquiere </a:t>
            </a:r>
            <a:r>
              <a:rPr b="0" lang="es-ES" sz="2200" spc="-1" strike="noStrike">
                <a:solidFill>
                  <a:srgbClr val="ff6600"/>
                </a:solidFill>
                <a:latin typeface="Abadi MT Condensed Light"/>
                <a:ea typeface="Times New Roman"/>
              </a:rPr>
              <a:t>Locatelli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 (Italia: empresa productora de quesos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badi MT Condensed Light"/>
                <a:ea typeface="Times New Roman"/>
              </a:rPr>
              <a:t>1962: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 Adquisición de </a:t>
            </a:r>
            <a:r>
              <a:rPr b="0" lang="es-ES" sz="2200" spc="-1" strike="noStrike">
                <a:solidFill>
                  <a:srgbClr val="ff6600"/>
                </a:solidFill>
                <a:latin typeface="Abadi MT Condensed Light"/>
                <a:ea typeface="Times New Roman"/>
              </a:rPr>
              <a:t>Findus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: compañía escandinava de alimentos congelado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badi MT Condensed Light"/>
                <a:ea typeface="Times New Roman"/>
              </a:rPr>
              <a:t>1970: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 </a:t>
            </a:r>
            <a:r>
              <a:rPr b="0" lang="es-ES" sz="2200" spc="-1" strike="noStrike">
                <a:solidFill>
                  <a:srgbClr val="ff6600"/>
                </a:solidFill>
                <a:latin typeface="Abadi MT Condensed Light"/>
                <a:ea typeface="Times New Roman"/>
              </a:rPr>
              <a:t>Libby: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 empresa norteamericana productora de zumos de frut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badi MT Condensed Light"/>
                <a:ea typeface="Times New Roman"/>
              </a:rPr>
              <a:t>1971: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 Fusión con Ursina-Franck (Suiza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badi MT Condensed Light"/>
                <a:ea typeface="Times New Roman"/>
              </a:rPr>
              <a:t>1973: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 </a:t>
            </a:r>
            <a:r>
              <a:rPr b="0" lang="es-ES" sz="2200" spc="-1" strike="noStrike">
                <a:solidFill>
                  <a:srgbClr val="ff6600"/>
                </a:solidFill>
                <a:latin typeface="Abadi MT Condensed Light"/>
                <a:ea typeface="Times New Roman"/>
              </a:rPr>
              <a:t>Stouffer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: empresa norteamericana especializada en alimentos congelad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badi MT Condensed Light"/>
                <a:ea typeface="Times New Roman"/>
              </a:rPr>
              <a:t>1979: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 </a:t>
            </a:r>
            <a:r>
              <a:rPr b="0" lang="es-ES" sz="2200" spc="-1" strike="noStrike">
                <a:solidFill>
                  <a:srgbClr val="ff6600"/>
                </a:solidFill>
                <a:latin typeface="Abadi MT Condensed Light"/>
                <a:ea typeface="Times New Roman"/>
              </a:rPr>
              <a:t>Beech-Nut: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 compañía norteamericana especializada en alimentos para beb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nestlechoc_b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549360" cy="365040"/>
          </a:xfrm>
          <a:prstGeom prst="rect">
            <a:avLst/>
          </a:prstGeom>
          <a:ln w="0">
            <a:noFill/>
          </a:ln>
        </p:spPr>
      </p:pic>
      <p:pic>
        <p:nvPicPr>
          <p:cNvPr id="69" name="nestlechoc_b" descr=""/>
          <p:cNvPicPr/>
          <p:nvPr/>
        </p:nvPicPr>
        <p:blipFill>
          <a:blip r:embed="rId3"/>
          <a:stretch/>
        </p:blipFill>
        <p:spPr>
          <a:xfrm>
            <a:off x="7772400" y="533520"/>
            <a:ext cx="549360" cy="3650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523880" y="990720"/>
            <a:ext cx="6248520" cy="759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badi MT Condensed Light"/>
              </a:rPr>
              <a:t>Orígenes y Evolución de </a:t>
            </a:r>
            <a:r>
              <a:rPr b="1" lang="en-US" sz="4400" spc="-1" strike="noStrike">
                <a:solidFill>
                  <a:srgbClr val="ff6600"/>
                </a:solidFill>
                <a:latin typeface="Abadi MT Condensed Light"/>
              </a:rPr>
              <a:t>Nestlé</a:t>
            </a:r>
            <a:r>
              <a:rPr b="1" lang="en-US" sz="4400" spc="-1" strike="noStrike">
                <a:solidFill>
                  <a:srgbClr val="000000"/>
                </a:solidFill>
                <a:latin typeface="Abadi MT Condensed Light"/>
              </a:rPr>
              <a:t>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badi MT Condensed Light"/>
                <a:ea typeface="Times New Roman"/>
              </a:rPr>
              <a:t>1985: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 Adquisición del clavel (los EEUU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badi MT Condensed Light"/>
                <a:ea typeface="Times New Roman"/>
              </a:rPr>
              <a:t>1988: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 Adquisición de </a:t>
            </a:r>
            <a:r>
              <a:rPr b="0" lang="es-ES" sz="2200" spc="-1" strike="noStrike">
                <a:solidFill>
                  <a:srgbClr val="ff6600"/>
                </a:solidFill>
                <a:latin typeface="Abadi MT Condensed Light"/>
                <a:ea typeface="Times New Roman"/>
              </a:rPr>
              <a:t>Buitoni-Perugina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 (Italia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badi MT Condensed Light"/>
                <a:ea typeface="Times New Roman"/>
              </a:rPr>
              <a:t>1988: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 Adquisición de</a:t>
            </a:r>
            <a:r>
              <a:rPr b="0" lang="es-ES" sz="2200" spc="-1" strike="noStrike">
                <a:solidFill>
                  <a:srgbClr val="ff6600"/>
                </a:solidFill>
                <a:latin typeface="Abadi MT Condensed Light"/>
                <a:ea typeface="Times New Roman"/>
              </a:rPr>
              <a:t> Rowntree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 (GB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badi MT Condensed Light"/>
                <a:ea typeface="Times New Roman"/>
              </a:rPr>
              <a:t>1992: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 Adquisición de </a:t>
            </a:r>
            <a:r>
              <a:rPr b="0" lang="es-ES" sz="2200" spc="-1" strike="noStrike">
                <a:solidFill>
                  <a:srgbClr val="ff6600"/>
                </a:solidFill>
                <a:latin typeface="Abadi MT Condensed Light"/>
                <a:ea typeface="Times New Roman"/>
              </a:rPr>
              <a:t>Perrier 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(Francia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badi MT Condensed Light"/>
                <a:ea typeface="Times New Roman"/>
              </a:rPr>
              <a:t>1995: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 Adquisición de </a:t>
            </a:r>
            <a:r>
              <a:rPr b="0" lang="es-ES" sz="2200" spc="-1" strike="noStrike">
                <a:solidFill>
                  <a:srgbClr val="ff6600"/>
                </a:solidFill>
                <a:latin typeface="Abadi MT Condensed Light"/>
                <a:ea typeface="Times New Roman"/>
              </a:rPr>
              <a:t>Schmidt y Söhne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badi MT Condensed Light"/>
                <a:ea typeface="Times New Roman"/>
              </a:rPr>
              <a:t>1997: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 Adquisición absoluta de </a:t>
            </a:r>
            <a:r>
              <a:rPr b="0" lang="es-ES" sz="2200" spc="-1" strike="noStrike">
                <a:solidFill>
                  <a:srgbClr val="ff6600"/>
                </a:solidFill>
                <a:latin typeface="Abadi MT Condensed Light"/>
                <a:ea typeface="Times New Roman"/>
              </a:rPr>
              <a:t>San Pellegrin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badi MT Condensed Light"/>
                <a:ea typeface="Times New Roman"/>
              </a:rPr>
              <a:t>1998: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 Nestlé adquiere </a:t>
            </a:r>
            <a:r>
              <a:rPr b="0" lang="es-ES" sz="2200" spc="-1" strike="noStrike">
                <a:solidFill>
                  <a:srgbClr val="ff6600"/>
                </a:solidFill>
                <a:latin typeface="Abadi MT Condensed Light"/>
                <a:ea typeface="Times New Roman"/>
              </a:rPr>
              <a:t>Spillers Petfoods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 (GB). Desposeimiento de la marca de fábrica</a:t>
            </a:r>
            <a:r>
              <a:rPr b="0" lang="es-ES" sz="2200" spc="-1" strike="noStrike">
                <a:solidFill>
                  <a:srgbClr val="ff6600"/>
                </a:solidFill>
                <a:latin typeface="Abadi MT Condensed Light"/>
                <a:ea typeface="Times New Roman"/>
              </a:rPr>
              <a:t> Findus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 (excepto en Suiza e Italia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badi MT Condensed Light"/>
                <a:ea typeface="Times New Roman"/>
              </a:rPr>
              <a:t>2000: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 Adquisición de </a:t>
            </a:r>
            <a:r>
              <a:rPr b="0" lang="es-ES" sz="2200" spc="-1" strike="noStrike">
                <a:solidFill>
                  <a:srgbClr val="ff6600"/>
                </a:solidFill>
                <a:latin typeface="Abadi MT Condensed Light"/>
                <a:ea typeface="Times New Roman"/>
              </a:rPr>
              <a:t>PowerBar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nestlechoc_b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549360" cy="365040"/>
          </a:xfrm>
          <a:prstGeom prst="rect">
            <a:avLst/>
          </a:prstGeom>
          <a:ln w="0">
            <a:noFill/>
          </a:ln>
        </p:spPr>
      </p:pic>
      <p:pic>
        <p:nvPicPr>
          <p:cNvPr id="74" name="nestlechoc_b" descr=""/>
          <p:cNvPicPr/>
          <p:nvPr/>
        </p:nvPicPr>
        <p:blipFill>
          <a:blip r:embed="rId3"/>
          <a:stretch/>
        </p:blipFill>
        <p:spPr>
          <a:xfrm>
            <a:off x="7772400" y="533520"/>
            <a:ext cx="549360" cy="3650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523880" y="990720"/>
            <a:ext cx="6248520" cy="759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badi MT Condensed Light"/>
              </a:rPr>
              <a:t>Análisis DAF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nestlechoc_b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549360" cy="365040"/>
          </a:xfrm>
          <a:prstGeom prst="rect">
            <a:avLst/>
          </a:prstGeom>
          <a:ln w="0">
            <a:noFill/>
          </a:ln>
        </p:spPr>
      </p:pic>
      <p:pic>
        <p:nvPicPr>
          <p:cNvPr id="78" name="nestlechoc_b" descr=""/>
          <p:cNvPicPr/>
          <p:nvPr/>
        </p:nvPicPr>
        <p:blipFill>
          <a:blip r:embed="rId3"/>
          <a:stretch/>
        </p:blipFill>
        <p:spPr>
          <a:xfrm>
            <a:off x="7772400" y="533520"/>
            <a:ext cx="549360" cy="3650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23880" y="990720"/>
            <a:ext cx="6248520" cy="759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33520" y="1397160"/>
          <a:ext cx="8153280" cy="500364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284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00"/>
                          </a:solidFill>
                          <a:latin typeface="Abadi MT Condensed Light"/>
                        </a:rPr>
                        <a:t>Puntos DÉBI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badi MT Condensed Light"/>
                        </a:rPr>
                        <a:t>*No tiene puntos débil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badi MT Condensed Light"/>
                        </a:rPr>
                        <a:t>*Si una empresa le hace competencia la adquier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00"/>
                          </a:solidFill>
                          <a:latin typeface="Abadi MT Condensed Light"/>
                        </a:rPr>
                        <a:t>AMENAZ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badi MT Condensed Light"/>
                        </a:rPr>
                        <a:t>*Posible Saturación del merc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badi MT Condensed Light"/>
                        </a:rPr>
                        <a:t>*Crisis económica en alguno de los países en los que oper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badi MT Condensed Light"/>
                        </a:rPr>
                        <a:t>*Entrada de otras multinacionales en el sector que actú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00"/>
                          </a:solidFill>
                          <a:latin typeface="Abadi MT Condensed Light"/>
                        </a:rPr>
                        <a:t>Puntos FUER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badi MT Condensed Light"/>
                        </a:rPr>
                        <a:t>*Gran infraestructura en más de 50 paí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badi MT Condensed Light"/>
                        </a:rPr>
                        <a:t>*Gran departamento de I+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badi MT Condensed Light"/>
                        </a:rPr>
                        <a:t>*Realización de Grandes campañas publicitar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badi MT Condensed Light"/>
                        </a:rPr>
                        <a:t>*Liderazgo en el sector de la alimentació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00"/>
                          </a:solidFill>
                          <a:latin typeface="Abadi MT Condensed Light"/>
                        </a:rPr>
                        <a:t>OPORTUNIDA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badi MT Condensed Light"/>
                        </a:rPr>
                        <a:t>*Desarrollo e investigación de nuevos produc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badi MT Condensed Light"/>
                        </a:rPr>
                        <a:t>*Posibilidad de adquirir o fusionarse con otras empresas del se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badi MT Condensed Light"/>
              </a:rPr>
              <a:t>Localización de Nestle en Españ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nestlechoc_b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549360" cy="365040"/>
          </a:xfrm>
          <a:prstGeom prst="rect">
            <a:avLst/>
          </a:prstGeom>
          <a:ln w="0">
            <a:noFill/>
          </a:ln>
        </p:spPr>
      </p:pic>
      <p:pic>
        <p:nvPicPr>
          <p:cNvPr id="83" name="nestlechoc_b" descr=""/>
          <p:cNvPicPr/>
          <p:nvPr/>
        </p:nvPicPr>
        <p:blipFill>
          <a:blip r:embed="rId3"/>
          <a:stretch/>
        </p:blipFill>
        <p:spPr>
          <a:xfrm>
            <a:off x="7772400" y="533520"/>
            <a:ext cx="549360" cy="3650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523880" y="990720"/>
            <a:ext cx="6248520" cy="759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mapa_donde" descr=""/>
          <p:cNvPicPr/>
          <p:nvPr/>
        </p:nvPicPr>
        <p:blipFill>
          <a:blip r:embed="rId4"/>
          <a:stretch/>
        </p:blipFill>
        <p:spPr>
          <a:xfrm>
            <a:off x="609480" y="1295280"/>
            <a:ext cx="3440160" cy="28576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 flipH="1" flipV="1">
            <a:off x="3276360" y="1981080"/>
            <a:ext cx="1523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2743200" y="2286000"/>
            <a:ext cx="18288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3200040" y="2133360"/>
            <a:ext cx="15238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724280" y="3505320"/>
            <a:ext cx="8384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badi MT Condensed Light"/>
              </a:rPr>
              <a:t>Caf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badi MT Condensed Light"/>
              <a:ea typeface="Abadi MT Condensed Ligh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952880" y="2057400"/>
            <a:ext cx="8384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badi MT Condensed Light"/>
              </a:rPr>
              <a:t>Caf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badi MT Condensed Light"/>
              <a:ea typeface="Abadi MT Condensed Ligh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800600" y="2590920"/>
            <a:ext cx="24004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badi MT Condensed Light"/>
              </a:rPr>
              <a:t>Sede Central de Nestlé Españ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badi MT Condensed Light"/>
              <a:ea typeface="Abadi MT Condensed Ligh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8320" y="3886200"/>
            <a:ext cx="189540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badi MT Condensed Light"/>
              </a:rPr>
              <a:t>Leche, yogures, helad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badi MT Condensed Light"/>
              <a:ea typeface="Abadi MT Condensed Light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2819520" y="2819160"/>
            <a:ext cx="16761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447920" y="12949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752480" y="1295280"/>
            <a:ext cx="373392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badi MT Condensed Light"/>
              </a:rPr>
              <a:t>Platos Precocinad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badi MT Condensed Light"/>
              <a:ea typeface="Abadi MT Condensed Light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1523880"/>
            <a:ext cx="1928880" cy="1346400"/>
          </a:xfrm>
          <a:custGeom>
            <a:avLst/>
            <a:gdLst/>
            <a:ahLst/>
            <a:rect l="l" t="t" r="r" b="b"/>
            <a:pathLst>
              <a:path w="1215" h="848">
                <a:moveTo>
                  <a:pt x="960" y="131"/>
                </a:moveTo>
                <a:cubicBezTo>
                  <a:pt x="946" y="128"/>
                  <a:pt x="886" y="114"/>
                  <a:pt x="870" y="105"/>
                </a:cubicBezTo>
                <a:cubicBezTo>
                  <a:pt x="843" y="90"/>
                  <a:pt x="823" y="62"/>
                  <a:pt x="793" y="54"/>
                </a:cubicBezTo>
                <a:cubicBezTo>
                  <a:pt x="713" y="34"/>
                  <a:pt x="759" y="44"/>
                  <a:pt x="652" y="28"/>
                </a:cubicBezTo>
                <a:cubicBezTo>
                  <a:pt x="565" y="0"/>
                  <a:pt x="539" y="5"/>
                  <a:pt x="435" y="16"/>
                </a:cubicBezTo>
                <a:cubicBezTo>
                  <a:pt x="431" y="37"/>
                  <a:pt x="437" y="65"/>
                  <a:pt x="422" y="80"/>
                </a:cubicBezTo>
                <a:cubicBezTo>
                  <a:pt x="403" y="99"/>
                  <a:pt x="372" y="104"/>
                  <a:pt x="345" y="105"/>
                </a:cubicBezTo>
                <a:cubicBezTo>
                  <a:pt x="264" y="109"/>
                  <a:pt x="183" y="114"/>
                  <a:pt x="102" y="118"/>
                </a:cubicBezTo>
                <a:cubicBezTo>
                  <a:pt x="11" y="149"/>
                  <a:pt x="40" y="121"/>
                  <a:pt x="0" y="182"/>
                </a:cubicBezTo>
                <a:cubicBezTo>
                  <a:pt x="19" y="261"/>
                  <a:pt x="53" y="285"/>
                  <a:pt x="128" y="310"/>
                </a:cubicBezTo>
                <a:cubicBezTo>
                  <a:pt x="196" y="304"/>
                  <a:pt x="271" y="315"/>
                  <a:pt x="332" y="284"/>
                </a:cubicBezTo>
                <a:cubicBezTo>
                  <a:pt x="507" y="197"/>
                  <a:pt x="341" y="256"/>
                  <a:pt x="448" y="220"/>
                </a:cubicBezTo>
                <a:cubicBezTo>
                  <a:pt x="550" y="237"/>
                  <a:pt x="569" y="236"/>
                  <a:pt x="627" y="323"/>
                </a:cubicBezTo>
                <a:cubicBezTo>
                  <a:pt x="637" y="361"/>
                  <a:pt x="636" y="402"/>
                  <a:pt x="652" y="438"/>
                </a:cubicBezTo>
                <a:cubicBezTo>
                  <a:pt x="671" y="480"/>
                  <a:pt x="714" y="509"/>
                  <a:pt x="729" y="553"/>
                </a:cubicBezTo>
                <a:cubicBezTo>
                  <a:pt x="747" y="607"/>
                  <a:pt x="734" y="581"/>
                  <a:pt x="768" y="630"/>
                </a:cubicBezTo>
                <a:cubicBezTo>
                  <a:pt x="791" y="704"/>
                  <a:pt x="761" y="636"/>
                  <a:pt x="819" y="694"/>
                </a:cubicBezTo>
                <a:cubicBezTo>
                  <a:pt x="830" y="705"/>
                  <a:pt x="833" y="722"/>
                  <a:pt x="844" y="732"/>
                </a:cubicBezTo>
                <a:cubicBezTo>
                  <a:pt x="906" y="787"/>
                  <a:pt x="960" y="796"/>
                  <a:pt x="1036" y="822"/>
                </a:cubicBezTo>
                <a:cubicBezTo>
                  <a:pt x="1070" y="833"/>
                  <a:pt x="1139" y="848"/>
                  <a:pt x="1139" y="848"/>
                </a:cubicBezTo>
                <a:cubicBezTo>
                  <a:pt x="1156" y="844"/>
                  <a:pt x="1176" y="846"/>
                  <a:pt x="1190" y="835"/>
                </a:cubicBezTo>
                <a:cubicBezTo>
                  <a:pt x="1215" y="815"/>
                  <a:pt x="1198" y="747"/>
                  <a:pt x="1190" y="732"/>
                </a:cubicBezTo>
                <a:cubicBezTo>
                  <a:pt x="1182" y="716"/>
                  <a:pt x="1163" y="708"/>
                  <a:pt x="1152" y="694"/>
                </a:cubicBezTo>
                <a:cubicBezTo>
                  <a:pt x="1133" y="670"/>
                  <a:pt x="1100" y="617"/>
                  <a:pt x="1100" y="617"/>
                </a:cubicBezTo>
                <a:cubicBezTo>
                  <a:pt x="1092" y="591"/>
                  <a:pt x="1083" y="566"/>
                  <a:pt x="1075" y="540"/>
                </a:cubicBezTo>
                <a:cubicBezTo>
                  <a:pt x="1071" y="527"/>
                  <a:pt x="1062" y="502"/>
                  <a:pt x="1062" y="502"/>
                </a:cubicBezTo>
                <a:cubicBezTo>
                  <a:pt x="1058" y="412"/>
                  <a:pt x="1064" y="321"/>
                  <a:pt x="1049" y="233"/>
                </a:cubicBezTo>
                <a:cubicBezTo>
                  <a:pt x="1046" y="218"/>
                  <a:pt x="1022" y="219"/>
                  <a:pt x="1011" y="208"/>
                </a:cubicBezTo>
                <a:cubicBezTo>
                  <a:pt x="994" y="191"/>
                  <a:pt x="982" y="131"/>
                  <a:pt x="960" y="131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2133720"/>
            <a:ext cx="167616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876920" y="3048120"/>
            <a:ext cx="19047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badi MT Condensed Light"/>
              </a:rPr>
              <a:t>Yogure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badi MT Condensed Light"/>
              <a:ea typeface="Abadi MT Condensed Light"/>
            </a:endParaRPr>
          </a:p>
        </p:txBody>
      </p:sp>
      <p:sp>
        <p:nvSpPr>
          <p:cNvPr id="99" name=""/>
          <p:cNvSpPr/>
          <p:nvPr/>
        </p:nvSpPr>
        <p:spPr>
          <a:xfrm>
            <a:off x="1262160" y="1971720"/>
            <a:ext cx="741240" cy="831960"/>
          </a:xfrm>
          <a:custGeom>
            <a:avLst/>
            <a:gdLst/>
            <a:ahLst/>
            <a:rect l="l" t="t" r="r" b="b"/>
            <a:pathLst>
              <a:path w="467" h="524">
                <a:moveTo>
                  <a:pt x="88" y="524"/>
                </a:moveTo>
                <a:cubicBezTo>
                  <a:pt x="131" y="511"/>
                  <a:pt x="173" y="499"/>
                  <a:pt x="216" y="486"/>
                </a:cubicBezTo>
                <a:cubicBezTo>
                  <a:pt x="242" y="478"/>
                  <a:pt x="267" y="468"/>
                  <a:pt x="293" y="460"/>
                </a:cubicBezTo>
                <a:cubicBezTo>
                  <a:pt x="306" y="456"/>
                  <a:pt x="331" y="448"/>
                  <a:pt x="331" y="448"/>
                </a:cubicBezTo>
                <a:cubicBezTo>
                  <a:pt x="344" y="439"/>
                  <a:pt x="358" y="432"/>
                  <a:pt x="370" y="422"/>
                </a:cubicBezTo>
                <a:cubicBezTo>
                  <a:pt x="397" y="398"/>
                  <a:pt x="447" y="345"/>
                  <a:pt x="447" y="345"/>
                </a:cubicBezTo>
                <a:cubicBezTo>
                  <a:pt x="467" y="281"/>
                  <a:pt x="448" y="277"/>
                  <a:pt x="395" y="243"/>
                </a:cubicBezTo>
                <a:cubicBezTo>
                  <a:pt x="356" y="117"/>
                  <a:pt x="274" y="38"/>
                  <a:pt x="152" y="0"/>
                </a:cubicBezTo>
                <a:cubicBezTo>
                  <a:pt x="79" y="14"/>
                  <a:pt x="64" y="3"/>
                  <a:pt x="24" y="64"/>
                </a:cubicBezTo>
                <a:cubicBezTo>
                  <a:pt x="0" y="157"/>
                  <a:pt x="0" y="134"/>
                  <a:pt x="24" y="281"/>
                </a:cubicBezTo>
                <a:cubicBezTo>
                  <a:pt x="38" y="368"/>
                  <a:pt x="88" y="434"/>
                  <a:pt x="88" y="524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2743200"/>
            <a:ext cx="27432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8320" y="4267080"/>
            <a:ext cx="30477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badi MT Condensed Light"/>
              </a:rPr>
              <a:t>Alimentos Congelados, ques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badi MT Condensed Light"/>
              <a:ea typeface="Abadi MT Condensed Ligh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0880" y="4876920"/>
            <a:ext cx="69724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Causas de esta localizació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5334120"/>
            <a:ext cx="784872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Café:</a:t>
            </a:r>
            <a:r>
              <a:rPr b="0" lang="en-US" sz="2000" spc="-1" strike="noStrike">
                <a:solidFill>
                  <a:srgbClr val="000000"/>
                </a:solidFill>
                <a:latin typeface="Abadi MT Condensed Light"/>
              </a:rPr>
              <a:t> Proximidad con el m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Leche, yogures, helados:</a:t>
            </a:r>
            <a:r>
              <a:rPr b="0" lang="en-US" sz="2000" spc="-1" strike="noStrike">
                <a:solidFill>
                  <a:srgbClr val="000000"/>
                </a:solidFill>
                <a:latin typeface="Abadi MT Condensed Light"/>
              </a:rPr>
              <a:t> Proximidad con el mar y con las zonas productoras de le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Alimentos Congelados, quesos:</a:t>
            </a:r>
            <a:r>
              <a:rPr b="0" lang="en-US" sz="2000" spc="-1" strike="noStrike">
                <a:solidFill>
                  <a:srgbClr val="000000"/>
                </a:solidFill>
                <a:latin typeface="Abadi MT Condensed Light"/>
              </a:rPr>
              <a:t> Proximidad con las zonas productoras de es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8T17:00:57Z</dcterms:created>
  <dc:creator>Joaquin Segura Tiñena</dc:creator>
  <dc:description/>
  <dc:language>en-US</dc:language>
  <cp:lastModifiedBy>Joaquin Segura Tiñena</cp:lastModifiedBy>
  <dcterms:modified xsi:type="dcterms:W3CDTF">2002-04-09T06:10:35Z</dcterms:modified>
  <cp:revision>5</cp:revision>
  <dc:subject/>
  <dc:title>Presentación de PowerPoint</dc:title>
</cp:coreProperties>
</file>